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0A3-C222-4618-94FE-BD52BED4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6BB-78E6-4855-9578-481BE47D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CF4-FACC-4009-AA40-9A77C316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E27-FB09-48F1-A4E3-3A014BDF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4C5F-88B4-419F-BA8E-87F46CBB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84BF-E82D-44DC-B33E-BA868C8F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CED2-C467-41D3-9BD7-E8BF90C2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EE38-9E8A-4007-88ED-3E2CF789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5EE8-2BB9-41D9-A082-2D5B3FBB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AE2-1AE9-4557-AB62-05D3FA55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501E-228F-4948-94A4-907D2CF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DAB-F5CC-490A-8F70-5288CBD0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8551-F155-4361-8CF8-CE18998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B588-245D-40A6-A839-C64D0181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551D-7594-42E4-A497-07C7D6BA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14DE-D152-4C9C-BCD8-CC82A8C8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115F-7AC8-4606-BE7D-613EF140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3F4-A0CB-42BE-A434-E615E8BE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D06-D19B-44E8-BD37-75E449A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111-0E7F-4401-8145-75C28259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231-3F18-44F8-82DF-4569E423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34D-922A-4E67-99C5-DA615DF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02B-E01F-4045-82B6-BF28401D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4BB-331E-4C15-8D7D-1062CABC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510-4A6F-4F1D-BB75-BA9DE754CA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9ACF-E954-4FD0-B55E-09C2BF00D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Goudy Stout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8487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DRA. YALINA GONZAL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RESIDENTE I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RADIOLOGIA MEDICA E IMÁG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Baskerville Old Face"/>
              </a:rPr>
              <a:t>C.H.Dr.A.A.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Doppler de po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No evalúa la dirección del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Mayor sensibilidad en la detección del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Doppler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Permite determinar la dirección del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Meno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sensibilidad a la detección del flu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ultra_home" descr=""/>
          <p:cNvPicPr/>
          <p:nvPr/>
        </p:nvPicPr>
        <p:blipFill>
          <a:blip r:embed="rId3">
            <a:lum bright="18000"/>
          </a:blip>
          <a:srcRect l="48002" t="0" r="0" b="50775"/>
          <a:stretch/>
        </p:blipFill>
        <p:spPr>
          <a:xfrm>
            <a:off x="4648320" y="1676520"/>
            <a:ext cx="4495680" cy="2766960"/>
          </a:xfrm>
          <a:prstGeom prst="rect">
            <a:avLst/>
          </a:prstGeom>
          <a:ln w="0">
            <a:noFill/>
          </a:ln>
        </p:spPr>
      </p:pic>
      <p:pic>
        <p:nvPicPr>
          <p:cNvPr id="170" name="865_H5_C7-4_OBtn" descr=""/>
          <p:cNvPicPr/>
          <p:nvPr/>
        </p:nvPicPr>
        <p:blipFill>
          <a:blip r:embed="rId4"/>
          <a:srcRect l="0" t="0" r="0" b="31545"/>
          <a:stretch/>
        </p:blipFill>
        <p:spPr>
          <a:xfrm>
            <a:off x="4800600" y="4419720"/>
            <a:ext cx="4038480" cy="205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8148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Doppler de p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Doppler 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DEFINI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Aneco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askerville Old Face"/>
              </a:rPr>
              <a:t>Ausencia de señal</a:t>
            </a: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 [ negro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askerville Old Face"/>
              </a:rPr>
              <a:t>Hipereco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askerville Old Face"/>
              </a:rPr>
              <a:t>Señales de </a:t>
            </a:r>
            <a:r>
              <a:rPr b="1" lang="es-ES" sz="2400" spc="-1" strike="noStrike">
                <a:solidFill>
                  <a:srgbClr val="ffffff"/>
                </a:solidFill>
                <a:latin typeface="Baskerville Old Face"/>
              </a:rPr>
              <a:t>mayor intensidad</a:t>
            </a:r>
            <a:r>
              <a:rPr b="0" lang="es-ES" sz="2400" spc="-1" strike="noStrike">
                <a:solidFill>
                  <a:srgbClr val="ffffff"/>
                </a:solidFill>
                <a:latin typeface="Baskerville Old Face"/>
              </a:rPr>
              <a:t> [ blanco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askerville Old Face"/>
              </a:rPr>
              <a:t>Hipoeco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askerville Old Face"/>
              </a:rPr>
              <a:t>Señales de </a:t>
            </a:r>
            <a:r>
              <a:rPr b="1" lang="es-ES" sz="2400" spc="-1" strike="noStrike">
                <a:solidFill>
                  <a:srgbClr val="ffffff"/>
                </a:solidFill>
                <a:latin typeface="Baskerville Old Face"/>
              </a:rPr>
              <a:t>menor intensidad</a:t>
            </a:r>
            <a:r>
              <a:rPr b="0" lang="es-ES" sz="2400" spc="-1" strike="noStrike">
                <a:solidFill>
                  <a:srgbClr val="ffffff"/>
                </a:solidFill>
                <a:latin typeface="Baskerville Old Face"/>
              </a:rPr>
              <a:t> [ mas oscuro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askerville Old Face"/>
              </a:rPr>
              <a:t>Isoeco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askerville Old Face"/>
              </a:rPr>
              <a:t>Señal de </a:t>
            </a:r>
            <a:r>
              <a:rPr b="1" lang="es-ES" sz="2400" spc="-1" strike="noStrike">
                <a:solidFill>
                  <a:srgbClr val="ffffff"/>
                </a:solidFill>
                <a:latin typeface="Baskerville Old Face"/>
              </a:rPr>
              <a:t>intensidad intermedia</a:t>
            </a:r>
            <a:r>
              <a:rPr b="0" lang="es-ES" sz="2400" spc="-1" strike="noStrike">
                <a:solidFill>
                  <a:srgbClr val="ffffff"/>
                </a:solidFill>
                <a:latin typeface="Baskerville Old Face"/>
              </a:rPr>
              <a:t> [ tonalidad de grises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askerville Old Face"/>
              </a:rPr>
              <a:t>DEFINI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Reflex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s el cambio que experimenta la dirección de una onda cuando esta choca contra la interfase entre dos medios de diferente impedancia acústica .  La magnitud esta diferencia es la que determina la amplitud de la onda reflej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Ref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ambio de dirección de propagación que experimenta una onda al cruzar una interfase entre dos medios con deferentes velocidades de propagación del son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93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GINEC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OBSTETR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NEONAT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TEJIDOS BLAN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PATOLOGIAS ABDOM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O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93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OBSTETRI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CONTROL PRE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EDAD  GEST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PERFIL BIO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DETERMINAR NUMERO DE EMBR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DETECCION DE ANOMALIAS CROMOSOMICAS Y SINDR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INFER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93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ABD.FETAL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83" name="ob_fetalhead2592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3581280" cy="2666880"/>
          </a:xfrm>
          <a:prstGeom prst="rect">
            <a:avLst/>
          </a:prstGeom>
          <a:ln w="0">
            <a:noFill/>
          </a:ln>
        </p:spPr>
      </p:pic>
      <p:pic>
        <p:nvPicPr>
          <p:cNvPr id="184" name="ob_fetalneck2593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3657600" cy="27241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86" name=""/>
          <p:cNvSpPr/>
          <p:nvPr/>
        </p:nvSpPr>
        <p:spPr>
          <a:xfrm>
            <a:off x="1293480" y="60958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liegue nu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Abdomen fe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Calota fe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DOPPLER EN OBSTETRICIA Y GINECOLOG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D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índrome hipertensivo asociado al embara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tardo de crecimiento intra uteri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rsión de quiste de ov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eoplasia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93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219H5C7-4OBtn" descr=""/>
          <p:cNvPicPr/>
          <p:nvPr/>
        </p:nvPicPr>
        <p:blipFill>
          <a:blip r:embed="rId1"/>
          <a:stretch/>
        </p:blipFill>
        <p:spPr>
          <a:xfrm>
            <a:off x="0" y="2111400"/>
            <a:ext cx="4495680" cy="3344760"/>
          </a:xfrm>
          <a:prstGeom prst="rect">
            <a:avLst/>
          </a:prstGeom>
          <a:ln w="0">
            <a:noFill/>
          </a:ln>
        </p:spPr>
      </p:pic>
      <p:pic>
        <p:nvPicPr>
          <p:cNvPr id="194" name="865_H5_C7-4_OBtn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267080" cy="317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90920" y="55627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askerville Old Face"/>
              </a:rPr>
              <a:t>Doppler del Cord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gyn_gestsac2677b" descr=""/>
          <p:cNvPicPr/>
          <p:nvPr/>
        </p:nvPicPr>
        <p:blipFill>
          <a:blip r:embed="rId1"/>
          <a:stretch/>
        </p:blipFill>
        <p:spPr>
          <a:xfrm>
            <a:off x="228600" y="2552760"/>
            <a:ext cx="4267080" cy="3178080"/>
          </a:xfrm>
          <a:prstGeom prst="rect">
            <a:avLst/>
          </a:prstGeom>
          <a:ln w="0">
            <a:noFill/>
          </a:ln>
        </p:spPr>
      </p:pic>
      <p:pic>
        <p:nvPicPr>
          <p:cNvPr id="199" name="art-ar3003.01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4038840" cy="2917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105520" y="5638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SIGNO DEL LI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SACO GEST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600200" y="4266720"/>
            <a:ext cx="53352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93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cara" descr=""/>
          <p:cNvPicPr/>
          <p:nvPr/>
        </p:nvPicPr>
        <p:blipFill>
          <a:blip r:embed="rId1"/>
          <a:stretch/>
        </p:blipFill>
        <p:spPr>
          <a:xfrm>
            <a:off x="0" y="2108160"/>
            <a:ext cx="4495680" cy="3349800"/>
          </a:xfrm>
          <a:prstGeom prst="rect">
            <a:avLst/>
          </a:prstGeom>
          <a:ln w="0">
            <a:noFill/>
          </a:ln>
        </p:spPr>
      </p:pic>
      <p:pic>
        <p:nvPicPr>
          <p:cNvPr id="206" name="PERF.FETAL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62120" y="5562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AGEN    3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AGEN  2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GENERALID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INTRODUCC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Los ultrasonidos son ondas acústicas que no percibe el oído hum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El fundamento diagnóstico de la Sonografía es de generar imágenes  corporales bidimensionales de alta resolución , en escala de grises ,  así como para representar parámetros de flujo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Esto inicio en  el siglo XIX con el descubrimiento de los rayos X.  Lo que le abrió paso  a los otros métodos de imágenes como es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MAGEN 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ermite la mejor valoración de malformaciones. Porque nos da una mejor resolución de ima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2319_H5_C5-2_3DSCTtn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495680" cy="3351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52480" y="2362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AGEN  3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Baskerville Old Face"/>
              </a:rPr>
              <a:t>NEONATOLOG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VALORACION CEREB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Hidrocef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Hemorragia cereb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Isquemia cerebr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Abscesos o colecciones subdu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VALORACION ABDOM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Malformaciones renales, biliares,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DOPPLER CEREBRAL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D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sfi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dema cereb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uerte cereb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emorragia e infarto intracereb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idrocef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lformaciones vas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rombosis ven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USG%20CEREBRAL" descr=""/>
          <p:cNvPicPr/>
          <p:nvPr/>
        </p:nvPicPr>
        <p:blipFill>
          <a:blip r:embed="rId2"/>
          <a:stretch/>
        </p:blipFill>
        <p:spPr>
          <a:xfrm>
            <a:off x="4572000" y="2030400"/>
            <a:ext cx="4572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1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Doppler cerbral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OLIGONO%20DE%20WILLIS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438280" y="52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ligono de Wil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art-ar3009.0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58200" cy="4187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12408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idrocefalia  comunic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95480" y="30481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666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latación ventri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933960" y="2590920"/>
            <a:ext cx="60948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981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iquido (aneco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GINECO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ANATO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ANOMALIA DEL ENDOMET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ANOMALIAS DEL MIOMET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VALORACION DE LOS ANEX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LESIONES NEOPLASICAS  Y NO NEOPLAS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1723_H5_L12-5_GYN_SCTtn" descr="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3349800"/>
          </a:xfrm>
          <a:prstGeom prst="rect">
            <a:avLst/>
          </a:prstGeom>
          <a:ln w="0">
            <a:noFill/>
          </a:ln>
        </p:spPr>
      </p:pic>
      <p:pic>
        <p:nvPicPr>
          <p:cNvPr id="235" name="2131_C8-4V_OB_PIHtn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14800" cy="3065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937040" y="59086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rte longitudinal de USG transvagi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1055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tivo intrautrino ( T de cob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gyn_ovarianmass2820" descr=""/>
          <p:cNvPicPr/>
          <p:nvPr/>
        </p:nvPicPr>
        <p:blipFill>
          <a:blip r:embed="rId1"/>
          <a:stretch/>
        </p:blipFill>
        <p:spPr>
          <a:xfrm>
            <a:off x="685800" y="2619360"/>
            <a:ext cx="3809880" cy="2838600"/>
          </a:xfrm>
          <a:prstGeom prst="rect">
            <a:avLst/>
          </a:prstGeom>
          <a:ln w="0">
            <a:noFill/>
          </a:ln>
        </p:spPr>
      </p:pic>
      <p:pic>
        <p:nvPicPr>
          <p:cNvPr id="241" name="gyn_transverseuterus2666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3962160" cy="2951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80880" y="5257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sa heterogénea de ovario( componente liq. Y sóli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32480" y="545148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rte transversal del útero USG transva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gyn_ovarianmass2824" descr=""/>
          <p:cNvPicPr/>
          <p:nvPr/>
        </p:nvPicPr>
        <p:blipFill>
          <a:blip r:embed="rId1"/>
          <a:stretch/>
        </p:blipFill>
        <p:spPr>
          <a:xfrm>
            <a:off x="0" y="2108160"/>
            <a:ext cx="4495680" cy="3349800"/>
          </a:xfrm>
          <a:prstGeom prst="rect">
            <a:avLst/>
          </a:prstGeom>
          <a:ln w="0">
            <a:noFill/>
          </a:ln>
        </p:spPr>
      </p:pic>
      <p:pic>
        <p:nvPicPr>
          <p:cNvPr id="247" name="gyn_uterinemass2826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4419720" cy="3292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0948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sa de ov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4080" y="560376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sa uter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00"/>
                </a:solidFill>
                <a:latin typeface="Baskerville Old Face"/>
              </a:rPr>
              <a:t>SONOHISTEROGRAFI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udio sonográfico que permite la evaluación de la cavidad endometrial y nos da una evaluación global del resto de las estructuras ginecológica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dic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ngrado postmenopaus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mento de grosor de la línea endome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ectos de llenado en la histerograf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Imagen025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3048120" cy="2363760"/>
          </a:xfrm>
          <a:prstGeom prst="rect">
            <a:avLst/>
          </a:prstGeom>
          <a:ln w="0">
            <a:noFill/>
          </a:ln>
        </p:spPr>
      </p:pic>
      <p:pic>
        <p:nvPicPr>
          <p:cNvPr id="253" name="Imagen023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667240" cy="2251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7200" y="1905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isterosalping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GENERALLID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RE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espe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REFRAC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ATENU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Todas estas dependen de las condiciones físicas de los tej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ransmision_reflexion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5776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SONOHISTEROGRAFI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Imagen042" descr=""/>
          <p:cNvPicPr/>
          <p:nvPr/>
        </p:nvPicPr>
        <p:blipFill>
          <a:blip r:embed="rId1"/>
          <a:stretch/>
        </p:blipFill>
        <p:spPr>
          <a:xfrm>
            <a:off x="0" y="3678120"/>
            <a:ext cx="3809880" cy="3179880"/>
          </a:xfrm>
          <a:prstGeom prst="rect">
            <a:avLst/>
          </a:prstGeom>
          <a:ln w="0">
            <a:noFill/>
          </a:ln>
        </p:spPr>
      </p:pic>
      <p:pic>
        <p:nvPicPr>
          <p:cNvPr id="258" name="Imagen022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3504960" cy="2876400"/>
          </a:xfrm>
          <a:prstGeom prst="rect">
            <a:avLst/>
          </a:prstGeom>
          <a:ln w="0">
            <a:noFill/>
          </a:ln>
        </p:spPr>
      </p:pic>
      <p:pic>
        <p:nvPicPr>
          <p:cNvPr id="259" name="Imagen019" descr=""/>
          <p:cNvPicPr/>
          <p:nvPr/>
        </p:nvPicPr>
        <p:blipFill>
          <a:blip r:embed="rId3"/>
          <a:stretch/>
        </p:blipFill>
        <p:spPr>
          <a:xfrm>
            <a:off x="5486400" y="3919680"/>
            <a:ext cx="3657600" cy="2938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600200" y="4267080"/>
            <a:ext cx="30492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2760" y="369900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O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86800" y="2043000"/>
            <a:ext cx="511560" cy="40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1295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LIPO ENDOME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054840" y="2112120"/>
            <a:ext cx="1072800" cy="49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870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IDROSAL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SONOGRAFI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oma submuc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splaza el endomet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neralmente hipoecoico o isoeco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ólipo endome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umento de volumen del endomet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neralmente hipereco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Imagen005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2895840" cy="2108160"/>
          </a:xfrm>
          <a:prstGeom prst="rect">
            <a:avLst/>
          </a:prstGeom>
          <a:ln w="0">
            <a:noFill/>
          </a:ln>
        </p:spPr>
      </p:pic>
      <p:pic>
        <p:nvPicPr>
          <p:cNvPr id="269" name="Imagen011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2660760" cy="2192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934320" y="1523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Mioma submuc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29040" y="1981080"/>
            <a:ext cx="3049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5638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Pólipo endomet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81680" y="4724280"/>
            <a:ext cx="3049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Baskerville Old Face"/>
              </a:rPr>
              <a:t>USG TIROID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983_H5_EFOV_SMPRTtn" descr=""/>
          <p:cNvPicPr/>
          <p:nvPr/>
        </p:nvPicPr>
        <p:blipFill>
          <a:blip r:embed="rId1"/>
          <a:stretch/>
        </p:blipFill>
        <p:spPr>
          <a:xfrm>
            <a:off x="0" y="1981080"/>
            <a:ext cx="4800600" cy="3576600"/>
          </a:xfrm>
          <a:prstGeom prst="rect">
            <a:avLst/>
          </a:prstGeom>
          <a:ln w="0">
            <a:noFill/>
          </a:ln>
        </p:spPr>
      </p:pic>
      <p:pic>
        <p:nvPicPr>
          <p:cNvPr id="277" name="pan_thyroid2663b" descr=""/>
          <p:cNvPicPr/>
          <p:nvPr/>
        </p:nvPicPr>
        <p:blipFill>
          <a:blip r:embed="rId2"/>
          <a:stretch/>
        </p:blipFill>
        <p:spPr>
          <a:xfrm>
            <a:off x="4876920" y="2065320"/>
            <a:ext cx="4267080" cy="31798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105520" y="54100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ISTE TIRO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6599520" y="3756960"/>
            <a:ext cx="363960" cy="41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5638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OIDES NORM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comic"/>
              </a:rPr>
              <a:t>Usg de ma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ódulo mam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esión hipoecoica redonde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BR_SolidBreastMass2853" descr=""/>
          <p:cNvPicPr/>
          <p:nvPr/>
        </p:nvPicPr>
        <p:blipFill>
          <a:blip r:embed="rId2"/>
          <a:stretch/>
        </p:blipFill>
        <p:spPr>
          <a:xfrm>
            <a:off x="4648320" y="2619360"/>
            <a:ext cx="3809880" cy="2838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038480" y="2895480"/>
            <a:ext cx="24386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Baskerville Old Face"/>
              </a:rPr>
              <a:t>USG DE MA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724280" y="342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ISTE  MAM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AGEN ANECO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FUERZO POSTERIOR DEL SO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1269A_H5_L12-5_BRST_SCTtn" descr=""/>
          <p:cNvPicPr/>
          <p:nvPr/>
        </p:nvPicPr>
        <p:blipFill>
          <a:blip r:embed="rId2"/>
          <a:stretch/>
        </p:blipFill>
        <p:spPr>
          <a:xfrm>
            <a:off x="0" y="2209680"/>
            <a:ext cx="4648320" cy="3463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H="1" flipV="1">
            <a:off x="2895120" y="3200040"/>
            <a:ext cx="3812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39720" y="31654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cc00"/>
                </a:solidFill>
                <a:latin typeface="Goudy Stout"/>
              </a:rPr>
              <a:t>GRACIA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Baskerville Old Face"/>
              </a:rPr>
              <a:t>GENERALID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TRANSD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Efecto piezoeléctr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askerville Old Face"/>
              </a:rPr>
              <a:t>Pierre Curie ( 188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Rece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Es capaz de detectar y amplificar las señ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ultra_home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GENERALID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Principios físic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Frecu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Número de ciclos completos por unidad de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Unidad ( Hert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Longitud de o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Es la distancia correspondiente entre dos puntos en la curva tiempo – pre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askerville Old Face"/>
              </a:rPr>
              <a:t>Es el tiempo necesario para completar un cic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00"/>
                </a:solidFill>
                <a:latin typeface="Baskerville Old Face"/>
              </a:rPr>
              <a:t>GENERALID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MODO 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modo_a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62485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Baskerville Old Face"/>
              </a:rPr>
              <a:t>GENERALID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MODO 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ob_limbbodywall2673a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51814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Baskerville Old Face"/>
              </a:rPr>
              <a:t>GENERALIDAD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askerville Old Face"/>
              </a:rPr>
              <a:t>MODO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modo_m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5334120" cy="1992240"/>
          </a:xfrm>
          <a:prstGeom prst="rect">
            <a:avLst/>
          </a:prstGeom>
          <a:ln w="0">
            <a:noFill/>
          </a:ln>
        </p:spPr>
      </p:pic>
      <p:pic>
        <p:nvPicPr>
          <p:cNvPr id="162" name="CORAZON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297000"/>
            <a:ext cx="777240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800" spc="-1" strike="noStrike">
                <a:solidFill>
                  <a:srgbClr val="ffcc00"/>
                </a:solidFill>
                <a:latin typeface="Baskerville Old Face"/>
              </a:rPr>
              <a:t>GENERALIDADES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askerville Old Face"/>
              </a:rPr>
              <a:t>MODALIDAD DOPP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doppler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810240" cy="2557440"/>
          </a:xfrm>
          <a:prstGeom prst="rect">
            <a:avLst/>
          </a:prstGeom>
          <a:ln w="0">
            <a:noFill/>
          </a:ln>
        </p:spPr>
      </p:pic>
      <p:pic>
        <p:nvPicPr>
          <p:cNvPr id="166" name="USG%20CEREBRAL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23:48:59Z</dcterms:created>
  <dc:creator>Franklin Isaza E.</dc:creator>
  <dc:description/>
  <dc:language>en-US</dc:language>
  <cp:lastModifiedBy>Radiología C.H.Dr.A.A.M.</cp:lastModifiedBy>
  <dcterms:modified xsi:type="dcterms:W3CDTF">2001-12-05T04:54:23Z</dcterms:modified>
  <cp:revision>7</cp:revision>
  <dc:subject/>
  <dc:title>SONOGRAFIA</dc:title>
</cp:coreProperties>
</file>