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C95-D5F3-490D-BA30-56775B88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3FE-57B5-4DD0-ABB1-9DF1265D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6FE3-892E-41F1-830D-7C65BC90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F4C-2761-4E5C-9FE3-F1998C24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80B1-A003-4911-A901-18786552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B13D-4A75-453D-B7CB-C6B7EED4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79DD-A4B0-46AD-8199-D332F4CD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4E0E-2541-49EA-838F-EA317B26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47D5-3176-4E8F-AB9A-C2161AE8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95C1-3060-4E96-8FF3-BE65543D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A4BF-2BDB-4F37-81F1-F8D432B8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FA5-3548-47D8-B81C-92EC045E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C95C-1E9B-402D-8A9B-8035E262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F7D4-9386-43E2-A2EA-F06B791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6B03-736C-40E2-A87F-FA92F01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3021-0817-46AA-B7A6-85BD87A3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CE52-A1BB-440B-A876-4240CA86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483-B689-4617-82A4-06623893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104-AB1A-4003-83D6-97605F2C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21F-DAA3-4930-8FC4-D75B3879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68D-88FB-4875-B62C-E1F3E484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B70-6B65-44E0-BC4E-9C0DEDA4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432-41C3-48CA-A994-127C5C11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365-8BFE-4A98-9EA3-A17D85EF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AD50-F2C2-4EFE-994D-DA1B224D1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2064-B0AA-46C7-9817-E497F451A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medicine.com/cgi-bin/foxweb.exe/makezoom@/em/makezoom?picture=%5Cwebsites%5Cemedicine%5Cmed%5Cimages%5CLarge%5C937hcl_400.jpg&amp;template=izoom2" TargetMode="External"/><Relationship Id="rId3" Type="http://schemas.openxmlformats.org/officeDocument/2006/relationships/hyperlink" Target="http://www.emedicine.com/cgi-bin/foxweb.exe/makezoom@/em/makezoom?picture=%5Cwebsites%5Cemedicine%5Cmed%5Cimages%5CLarge%5C937hcl_400.jpg&amp;template=izoom2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medicine.com/cgi-bin/foxweb.exe/makezoom@/em/makezoom?picture=%5Cwebsites%5Cemedicine%5Cmed%5Cimages%5CLarge%5C937hcl_1000.jpg&amp;template=izoom2" TargetMode="External"/><Relationship Id="rId3" Type="http://schemas.openxmlformats.org/officeDocument/2006/relationships/hyperlink" Target="http://www.emedicine.com/cgi-bin/foxweb.exe/makezoom@/em/makezoom?picture=%5Cwebsites%5Cemedicine%5Cmed%5Cimages%5CLarge%5C937hcl_1000.jpg&amp;template=izoom2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medicine.com/cgi-bin/foxweb.exe/makezoom@/em/makezoom?picture=%5Cwebsites%5Cemedicine%5Cmed%5Cimages%5CLarge%5C937hcl_1000_trap.jpg&amp;template=izoom2" TargetMode="External"/><Relationship Id="rId3" Type="http://schemas.openxmlformats.org/officeDocument/2006/relationships/hyperlink" Target="http://www.emedicine.com/cgi-bin/foxweb.exe/makezoom@/em/makezoom?picture=%5Cwebsites%5Cemedicine%5Cmed%5Cimages%5CLarge%5C937hcl_1000_trap.jpg&amp;template=izoom2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LEUCEMIAS CRÓNI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iviana Maldon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Gilberto Pér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iécer Arocem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Julia Aid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Rainier Rodrígu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Kai Hong Li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Ng Wei Man Yin 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FISIOPATOLOGÍ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LLC resulta de un proceso multifactorial , que da inicio a una expansión policlonal  de  LB CD5+ , que eventualmente podría transformarse a una proliferación policl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FISIOPATOLOGÍ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Bases Gené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Genes bcl-1 , bcl-2, bcl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ooncogenes lcr y c-fg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Gen RB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ncogen c-my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Gen p5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lteraciones citogené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FISIOPATOLOGÍ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02t3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464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Características cel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iste LLC por LT Y 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LLC-LB representa alrededor del 85-90% de los ca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tán constituidos por una subpoblación de LB CD5+ maduros (LB-1a) presentes en ganglios linfáticos y sangre perifér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LB-1a se encuentran también en patologías como Artritis Reumatoidea, LES y Síndrome de Sjögre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Características cel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os LB CD5+ (LB-1a) en comparación con los LB normales presenta disminución de Ig de superficie de Membra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munofentipo: CD5+, CD19+, CD20+, CD23+, CD10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munofenotípicamente inmad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rfológicamente mad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s citokinas involucradas en su crecimiento y diferenciación son IL-10 y TNF-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linfos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uadro%20de%20marcadores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87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Criterio Diagnóst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infocitosis absoluta con linfocitos pequeños y maduros en apar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munofenotipo característico ( Baja densidad de SmIg, CD5+, CD19+, CD20+, CD23+, FMC7-/+, CD22-/+, Infiltración de MO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Criterio Diagnóst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5943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Linfocitosis absoluta con linfocitos morfológicamente madu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HEME019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40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Clasificación morfológica FA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oponen 3 tipos morfológic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LC típico  (Linfocitos pequeño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&gt;90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LC-Leucemia prolinfocítica ( Proporción de prolinfocitos entre 11-54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LC atípica (Morfología heterogénea de células linfoides, Prolinfocitos &lt;10%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ccffff"/>
                </a:solidFill>
                <a:latin typeface="Tahoma"/>
              </a:rPr>
              <a:t>DEFINICIÓN DE LEUCEM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Constituye un grupo de transtornos con fisiopatología, manifestaciones clínicas y pronósticos difer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Acumulación o proliferación irregular en la médula ósea de un miembro de la serie leucocitaria de la sang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La célula leucémica excede en número y sustituye los elementos celulares norm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También proliferan en otras regiones del sistema RE bazo, hígado, ganglios linfát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Criterio Diagnóstic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tros trastornos linfoproliferativos deben ser considerados antes del diagnóstico de LLC atíp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isomía 12, Leucemia Prolinfocítica (Cursa con aumento de SmIg y prolinfocito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&gt;54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Historia Natur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cursar asintomát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el caso que sea sintomático, por lo general presentan linfadenopatías generalizadas, fátiga y pérdida de pe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paciente sintomático puede desarrollar eventualmente linfadenopatías, y visceromegal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ambos casos hay linfocitosis, e incluso puede aparecer anemia y trombocitopenia como resultado de la infiltración de la MO, hiperesplenismo y fenómenos autoinmu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533160"/>
            <a:ext cx="5333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Historia Natur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600" y="5410080"/>
            <a:ext cx="3733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filtración a la 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06f1a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4343400" cy="3962520"/>
          </a:xfrm>
          <a:prstGeom prst="rect">
            <a:avLst/>
          </a:prstGeom>
          <a:ln w="0">
            <a:noFill/>
          </a:ln>
        </p:spPr>
      </p:pic>
      <p:pic>
        <p:nvPicPr>
          <p:cNvPr id="129" name="06f1b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4190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06t2" descr=""/>
          <p:cNvPicPr/>
          <p:nvPr/>
        </p:nvPicPr>
        <p:blipFill>
          <a:blip r:embed="rId2"/>
          <a:stretch/>
        </p:blipFill>
        <p:spPr>
          <a:xfrm>
            <a:off x="2819520" y="0"/>
            <a:ext cx="362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06t4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4800600" cy="4495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10760" y="609480"/>
            <a:ext cx="47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imes New Roman"/>
              </a:rPr>
              <a:t>LCC-Historia Natur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Historia Natural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tros factores pronósticos para LLC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[LDH] sé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imidina Quina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croglobul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D23 , CD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resencia de mutación de p5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5791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Clasificación Clínic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10t1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29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LC-Clasificación Clínic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International Workshop on Chronic Lymphocytic Leukemia  y el National Cancer Institute han recomendado la integración de la Clasificación de RAI y Binet de la siguiente manera: A(I), A(II), B(I), B(II), C(III), C(IV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1772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ccffff"/>
                </a:solidFill>
                <a:latin typeface="Tahoma"/>
              </a:rPr>
              <a:t>TRATAMIENT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ffff"/>
                </a:solidFill>
                <a:latin typeface="Tahoma"/>
              </a:rPr>
              <a:t>Leucemia Prolinfocí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1640" y="44956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lia Ai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ccffff"/>
                </a:solidFill>
                <a:latin typeface="Tahoma"/>
              </a:rPr>
              <a:t>CLASIFIC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Según la cantidad de cél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a) leucosis leucé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b) leucosis aleucém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Según el cur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a) agu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b)crón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Según el tipo cel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Linfoc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Mielocític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Monocí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ffff"/>
                </a:solidFill>
                <a:latin typeface="Tahoma"/>
              </a:rPr>
              <a:t>Leucemia Prolinfocí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ue descrita en 1974 por Galton como un síndrome linpoproliferativo caracterizado por la presencia de gran esplenomegalia con escasas adenopatías y elevada leucocitosis (generalmente &gt; 100` 109/1). A expensas de unas células lmfoides grandes con nucleolo prominente prolinfocito . Existen 2 variedades LP-T y LP-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ffff"/>
                </a:solidFill>
                <a:latin typeface="Tahoma"/>
                <a:ea typeface="Times New Roman"/>
              </a:rPr>
              <a:t>Leucemia Prolinfocítica de origen B (LP-B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presenta alrededor del 5-10% de todos los síndromes lmfoproliferativos y afecta generalmente a personas mayores de 60 años con predominio de varones 70%. Los rasgos clínicos más notables 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ste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érdida de pe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olestias abdominales motivadas por el aumento de tamaño del bazo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 la exploración física se obser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splenomegalia gigante (&gt; l 0cm) con la ausencia o escasa expresión de adenopatí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ffff"/>
                </a:solidFill>
                <a:latin typeface="Tahoma"/>
                <a:ea typeface="Times New Roman"/>
              </a:rPr>
              <a:t>Leucemia Prolinfocítica de origen B (LP-B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IVEL HEMÁTIC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levada normocrómica normocitica (75% de enferm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rombopenia (&lt; 100 / 109/1 en el 50°/© de los cas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Hepogammaglobulin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umento de la actividad de supresión y disminución de la NK, lo que favorece el desarrollo de infección tanto bacteriano como virica y por gérmenes oportun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Características del </a:t>
            </a:r>
            <a:r>
              <a:rPr b="1" lang="es-MX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P</a:t>
            </a:r>
            <a:r>
              <a:rPr b="1" lang="es-E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rolinfoci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ayor tamaño que el linfocito de la leucemia linfoútica cr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asofilia citoplasmát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romatina condens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ucleolo central promi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La biopsia ósea muestra un patrón difuso o mixto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(nodular o intersticial). La histopatologia del bazo se caracteriza por la afectación primaria de la pulpa blanca (formaciones seudonodulares) con o sin afectación de pulpa roja (infiltración difus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Evolución y </a:t>
            </a:r>
            <a:r>
              <a:rPr b="1" lang="es-MX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T</a:t>
            </a:r>
            <a:r>
              <a:rPr b="1" lang="es-E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rat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a mediana de supervivencia de la LP-B se sitúa en torno a los 2 años siendo por tanto su pronóstico peor que la LLC-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l tratamiento óptimo aún no está establecido, dado el número reducido de casos reportados en la mayoría de las se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as modalidades terapéuticas empleadas en la LLC, fundamentalmente clorambucil y prednisona sólo suelen lograr remisiones par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Evolución y </a:t>
            </a:r>
            <a:r>
              <a:rPr b="1" lang="es-MX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T</a:t>
            </a:r>
            <a:r>
              <a:rPr b="1" lang="es-ES" sz="4400" spc="-1" strike="noStrike">
                <a:solidFill>
                  <a:srgbClr val="ccffff"/>
                </a:solidFill>
                <a:latin typeface="Tahoma"/>
                <a:ea typeface="Times New Roman"/>
              </a:rPr>
              <a:t>rat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os tratamientos más agresivos con poliuimuíterapia tipo CHOPP permiten alcanzar remisiones completas hasta el 50% de los casos si bien estas son poco durade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Una medida eficaz en muchos casos es la esplenectomía o radiación esplénica, indicada en individuos &gt; 70 a, empleando dosis semanal de 100 cG durante 10 - 15 seman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n algunos casos con gran leucocitosis se puede considerar el empleo de leucofére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ffff"/>
                </a:solidFill>
                <a:latin typeface="Tahoma"/>
                <a:ea typeface="Times New Roman"/>
              </a:rPr>
              <a:t>Leucemia Prolinfoútica de origen T (LP-T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unque es más rara que se contrapartida B, en el contexto de los síndromes linfoproliferativos la LP-T representa un terc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CARACTERÍSTICAS CLÍN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a LP-T presenta gran esplenomegalia a diferencia de la LP-B cursa con más: Adenopatías (50%) así como lesiones dérmicas (30%), nódulo eritema maculopapular, derrame pleural y ascítis (14°l0). El predominio de varones es menos evidente siendo semejante la edad de penetr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ffff"/>
                </a:solidFill>
                <a:latin typeface="Tahoma"/>
                <a:ea typeface="Times New Roman"/>
              </a:rPr>
              <a:t>Leucemia Prolinfoútica de origen T (LP-T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A </a:t>
            </a:r>
            <a:r>
              <a:rPr b="1" lang="es-MX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IVEL HEMÁTICO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Grandes leucocitosis (&gt;200* 109 en la mitad de los casos). Acompañadas de anemias y trombopenias moder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ffff"/>
                </a:solidFill>
                <a:latin typeface="Tahoma"/>
                <a:ea typeface="Times New Roman"/>
              </a:rPr>
              <a:t>Leucemia Prolinfoútica de origen T (LP-T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aracterísticas del prolinfoc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enor tamañ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ontorno más irregu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Basofilia citoplasmática más inten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úcleo discretamente convolu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ucleolo menos promin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os prolinfocitos T muestran positividad para fosfatasa ácida, B glucononidasa.  Las lesiones cutáneas revelan infiltración multifocal de la dermis, pero respetando la epiderm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ffff"/>
                </a:solidFill>
                <a:latin typeface="Tahoma"/>
                <a:ea typeface="Times New Roman"/>
              </a:rPr>
              <a:t>Leucemia Prolinfoútica de origen T (LP-T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volución y trat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iene mal pronóstico siendo la mediana de supervivencia de 7.5 meses. Los tratamientos quimioterápicos convencionales no parecen ser eficaces. Probablemente la terapéutica de elección sea la 2' desoxicoformicina { 10% de respuestas completas y 40% par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ccffff"/>
                </a:solidFill>
                <a:latin typeface="Tahoma"/>
              </a:rPr>
              <a:t>FACTORES ETIOLÓG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Tahoma"/>
              </a:rPr>
              <a:t>VI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Tahoma"/>
              </a:rPr>
              <a:t>LESIONES MEDULA OS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Tahoma"/>
              </a:rPr>
              <a:t>FACTORES CROMOSÓM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Tahoma"/>
              </a:rPr>
              <a:t>FUNCIÓN INMUNOLÓGICA ABERR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ccffff"/>
                </a:solidFill>
                <a:latin typeface="Tahoma"/>
              </a:rPr>
              <a:t>Leucemia de Células Vellosas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Tahoma"/>
              </a:rPr>
              <a:t>                   </a:t>
            </a:r>
            <a:r>
              <a:rPr b="0" lang="es-MX" sz="4000" spc="-1" strike="noStrike">
                <a:solidFill>
                  <a:srgbClr val="ccecff"/>
                </a:solidFill>
                <a:latin typeface="Tahoma"/>
              </a:rPr>
              <a:t>Eliécer Arosemena Vencè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a leucemia de células vellosas es una leucemia linfoide crónica descrita en 1958 por Borouncle y colaboradores. Esta es una enfermedad de las células B, y la célula anormal tiene proyecciones citoplasmáticas en forma de cabellos en su superficie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a célula anormal es un linfocito de la clona B. Esta infiltra el sistema reticuloendotelial del paciente e interfiere con la función de la médula ósea, resultando una falla o pancitopenia. Esta también infiltra el hígado y bazo, provocando organomegalia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Frecuencia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 (geográficamente)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: En los Estados Unidos la Leucemia de Células vellosas es poco comú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,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1-2% de todos los casos de leucemi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Algunas variaciones geográficas han sido observadas, como que en Japón la incidencia en extremo ba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Raza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sta enfermedad es observada con mayor frecuencia en las personas de tez blanca. Se ha reportado que ocurre con mayor frecuencia en la población judía Ashkenazi masculina, y es muy rara en Jap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Sexo: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a leucemia de células vellosas es mayormente observada en hombres con una relación hombre/mujer de 5: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Edad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sta enfermedad ocurre por lo general en hombres de mediana edad, a una edad promedio de 52 añ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Hallazgos clínic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Histori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síntomas y quejas más comunes son l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bilid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 l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tig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ebido a anemia. Aproximadamente un tercio de los pacientes tiene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ngrad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causa de trombocitopenia, y otro tercio desarrolla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ebre e infeccion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causa de neutrope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eden aparecer síntomas relacionados con la infiltración de órganos del sistema reticuloendotelial. E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comfort abdomin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sultado de un bazo agrandado está presente en un cuarto de los pac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gunos pacientes pueden presentar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érdida de peso, fiebre y sudoración nocturn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síntomas similares a los de otros desórdenes linfoproliferativ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xamen Físic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plenomegal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 el hallazgo más común en los pacientes, y esta es masiva en más del 80% de los pac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Hepatomegal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con una leve disfunción hepática puede ser encontrada en un 20% de los casos y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linfoadenopatí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on hallazg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prominente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n un 10% de los pac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iebre de bajo grad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 parte de la enfermedad, pero puede ser debido a una infección como consecuencia de neutropenia. En más de la mitad de los casos esta es producida por Gram-negativos.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Infecciones por micobacterias atípi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Mycobacterium avium intracellular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 son comunes.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Infecciones fung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iseminadas y por 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Pneumocystis carini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pueden ocurrir en algunos ca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Estudios de laboratori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as células vellosas típicas son llamadas así por su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proyecciones citoplasmáti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características, las cuales aparecen como un fino microvello (parecido a un cabello) cuando se ve al microscopio de luz, de contraste y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lectrónico.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on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células mononuclear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con núcleo central o excéntr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T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ienen un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fenotipo de célula B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madura y expresan típicamente cadenas ligeras simples o múltiples de inmunoglobulinas y antígenos de células B como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CD19, CD20 y CD22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, pero no CD21 (marcador tardío de células B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Bly-7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tiene alta sensibilidad y especificidad para leucemia de células vellosas. La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tinciones para CD22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tienen más alta intensidad en las células vellosas que en las células B normales.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ueden identificars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inmun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-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fenotípicam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e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en e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92% de los c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os, incluso cuando representen menos del 1% de los linfocitos circulantes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valuación citoquím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es importante para la confirmación diagnóstica de los hallazgos morfológicos. Las células vellosas demuestran una alta positividad a la tinción por 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Fosfatasa ácida resistente a tartra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(ver figu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cuenta perifér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demuestra pancitopenia con conteos disminuidos para los tres linajes celular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Anemi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usualmente severa y normocítica/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normocróm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Neutropenia y monocitopen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usualmente presentes, pero con un conteo de blancos elevado (células vellosas) en el 20% de los ca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Trombocitopen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en más del 80% de los pac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El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aspirado de médula óse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es en la mayoría de los casos no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es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exitoso porque se obtiene una aspirado seco. La infiltración de la médula por células vellosas hace el aspirado más difí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biopsia de médula óse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muestra un patrón de infiltrado por células vellosas con un solo núcleo ovalado o redondo separado de un citoplasma abundante en una fina red fibri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Las células se ven separadas dando la apariencia de huevo frito, característ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Estudios Imagenológico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La mayoría de los pacientes tienen un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esplenomegalia masiv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la cual no es necesario confirmar con este tipo de estudios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En formas más leves, la medición por ultrasonido del hígado y bazo una leve organomegalia que no es possible hallar a la palp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Otras prueba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En los casos difíciles puede confirmarse con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análisis inmunofenotípi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de las células o por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microscopía electróni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de las células sospechos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Los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niveles del receptor de IL-2 solubl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están elevados en pacientes con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eu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emia de Células Vellosas y puede proveer datos adicionales de apoyo para realizar el diagnóst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000" spc="-1" strike="noStrike">
                <a:solidFill>
                  <a:srgbClr val="ccffff"/>
                </a:solidFill>
                <a:latin typeface="Tahoma"/>
              </a:rPr>
              <a:t>PATOGENIA DE LAS MANIFESTACIONES CLÍNI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Insuficiencia de la médula ós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Trombocitope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Granulocitope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Organomegalia e infil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Linfadenopat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Esplenomega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Dolor ós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Historia gingival y lesiones o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Hallazgos en el sistema nervios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Hallazgos histológico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Los hallazgos de pancitopenia y esplenomegalia acompañados de células circulantes que sean TRAP-positivas y un aspirado y biopsia de médula ósea con un material que muestre infiltración de un material mononuclear que tiene la apariencia de huevo frito permite el diagnóstic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  <a:ea typeface="Arial"/>
              </a:rPr>
              <a:t>Tratamien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Cuidados médico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Esta enfermedad puede comportarse como una leucemia crónica y no dar ningún síntoma. Aproximadamente, el 10% de los casos, por lo general, hombres ancianos con esplenomegalia moderada y poca disminución de los recuentos celulares sanguíneos, nunca requerirán te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p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o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criterios estánda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para dar inicio al seguimiento 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Anemia significa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Hb:8-10 g/dL o men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Trombocitopen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con plaquetas de 50,000-100,000 mL o meno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Neutropen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con neutrófilos absolutos de 500-1000 mL o menos; presencia de síntomas o necesidad de transfusiones son indicaciones para el inicio de la terap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Indicaciones menos comun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para iniciar la terapia 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eucocitosi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con una alta proporción de células vellos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Infecciones graves a repetició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splenomegalia sintomát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infadenopatí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abultadas o doloros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Vascu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Compromiso ós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Tratamiento quirúrgico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splenectomí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era el tratamiento estándar y fue usado comúnmente en el pasado.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 desarrollab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rápidamente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itopenia en la mayoría de los paci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l tamaño esplénico no predecía la respuesta a la esplenectomí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terapia médica efec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ha reemplazado a la esplenectomía como tratamiento de primera líne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La esplenectomía ha sido reservada para pacientes quiene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no presentan una respuesta satisfactori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al tratamiento sistémico o para aquellos que tienen infecciones activas y sangrado por trombocitope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Tratamiento medicamento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La terapia sistémica ha variado rápidamente en los últimos 10 años debido a los nuevos agentes como el interferón y a los nuevos análogos de purinas. También, la disponibilidad de factores de crecimiento hematopoyético humano recombinantes han mejorado el tratamiento de soporte durante infecciones gr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Análogos de purinas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-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P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acientes con inmunodeficiencia combinada severa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s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n deficientes en la enzima catabólica para purinas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adenosina deaminas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. Esta deficiencia causa acumulación intracelular d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deoxiadenosin trifosfato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y provoca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linfotoxici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. Los análogos de purinas imitan esta condición por medio de una unión irreversible a la adenosin deaminasa o por fomentar la resistencia a la deaminación en la vía de rescate de purina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Cladribina o 2-clorodeoxiadenosina 2-CDA (Leustatin)-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R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ompe las cadenas de DNA e inhibe la síntesis del mismo. Altera el metabolismo celular causando la muerte a células en descanso y en divisió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Pentostatina o 2-deoxicoformicina (Nipent)-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1" i="1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s menos activo que 2-CDA para esta enfermeda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Interferón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Proteína producida naturalmente con efectos antitumorales e inmunomodulad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cc99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IFN-a2a (Roferon) or IFN-a2b (Intron A)-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l interferon alfa fue el primer medicamento sistémico que demostró una erradicación parcial de las células vellosas de la médula ósea. Roferon e Intron A logra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efectos similares al IFN natural en la leucemia de células vellosas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Factor estimulante de colonias de granulocitos recombinante (G-CSFs)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debido a que el tr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tamiento de la leu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mia de células vellosas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está asociado con neutropenia, el uso de G-CSF puede ser útil para reducir la toxicidad del tratamient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1.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     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Tahoma"/>
                <a:ea typeface="Arial"/>
              </a:rPr>
              <a:t>Filgrastim or G-CSF (Neupogen)-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corta los efectos tempranos mielosupresivos del IFN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Arial"/>
              </a:rPr>
              <a:t> y revierte la neutropenia en algunos pacientes con leucemia de células vello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  <a:ea typeface="Arial"/>
              </a:rPr>
              <a:t>Prognosis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Esta tiene un comportamiento de leu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Arial"/>
              </a:rPr>
              <a:t>c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emia crónica. Con la nuevas terapias, la mayoría de los pacientes alcanzan una remisión clínica y  en algunos casos cura a largo pla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Aunque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Arial"/>
              </a:rPr>
              <a:t>pueden habe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 recaídas después de 5 a 10 años estas r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  <a:ea typeface="Arial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  <a:ea typeface="Arial"/>
              </a:rPr>
              <a:t>ponden al mismo tratami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Leucemia de Células Vellos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t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sangre perifér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00x que demuestra linfocitosis y la ausencia de otros tipos de células sanguíneas (pancitopenia). Las proyecciones citoplasmáticas características son visib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>
            <a:hlinkClick r:id="rId2"/>
          </p:cNvPr>
          <p:cNvSpPr/>
          <p:nvPr/>
        </p:nvSpPr>
        <p:spPr>
          <a:xfrm>
            <a:off x="3619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937hcl_400" descr="Click to see larger pictu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2362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Tahoma"/>
              </a:rPr>
              <a:t>Disfunción inmuni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Transtornos de la síntesis de anticuerpos humo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Perturbación de la función inmunitaria de dependencia cel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Tahoma"/>
              </a:rPr>
              <a:t>Síntesis de autoanticuerpos prov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Anemia hemolítica autoinmu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Tahoma"/>
              </a:rPr>
              <a:t>Trombocitope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Leucemia de Células Vellos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roti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e sangre periféric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 1000x demostrando linfocitos con las proyecciones citoplasmáticas caracteríatic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>
            <a:hlinkClick r:id="rId2"/>
          </p:cNvPr>
          <p:cNvSpPr/>
          <p:nvPr/>
        </p:nvSpPr>
        <p:spPr>
          <a:xfrm>
            <a:off x="3619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937hcl_1000" descr="Click to see larger pictu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Leucemia de Células Vellos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Frotis de sangre periférica a 1000x que muestra la tinción de tartrato-fosfatasa ácido resistente (TRAP) en linfocit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>
            <a:hlinkClick r:id="rId2"/>
          </p:cNvPr>
          <p:cNvSpPr/>
          <p:nvPr/>
        </p:nvSpPr>
        <p:spPr>
          <a:xfrm>
            <a:off x="3619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937hcl_1000_trap" descr="Click to see larger pictu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2133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887120"/>
            <a:ext cx="7467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LEUCEMIA MIELOIDE CRONICA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Times New Roman"/>
              </a:rPr>
              <a:t>Rainier Rodríguez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1845 Bennett en Escocia Virchow en Alemania publican primeros ca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1847 se introduce el término “leukämie” (Leucemia) por Vircho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1878 Neumann propone el término “myelogene” (mielogen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n 1960 Nowell y Hungerford, reporta la pérdida del brazo largo del cromosoma 21 ó 22 en dos pacientes que presentaban la enfermedad, anormalidad a la que se le denominó cromosoma Filadelf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owley descubre que la pérdida del brazo largo del cromosoma 22 no es tal sino una traslocación recíproca de los cromosomas 9 y 2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Epidemiologí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a incidencia de la LMC es de 1 a 2 casos por 100,000 perso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on el 15 % de todos los casos de Leucem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La edad media de presentación es de 45-55 años y aumenta rápidamente la incidencia con el aumento de los añ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enta mas en los hombres que en las mujeres, pero con las mismas manifestaciones y cur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Etiologí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adiación ionizante(Japoneses, británicos, Mujere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nhibidores de la Topoisomerasa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o demostrados:  benceno, agentes alquilantes, fármacos citotóxicos y agente vi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actor hereditario poco prob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95280" y="26668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PATOGENESI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Importan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romosoma Filadelfia(cromosoma Ph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Gen híbrido BCR-AB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teína de fusión p21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Efectos del BCR-ABL sobre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adhesión celu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roliferación celul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apoptosi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Fase Crónica(síntomas y signos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S COMU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asos diagnosticado por exámenes de rutin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atiga, malestar general, disminución de tolerancia al ejercicio, anorexia, perdida de peso, aumento de la sudor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isconfort abdominal, saciedad precoz, dolor o presencia de masa en el cuadrante superior izquier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plenomegalia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ENOS COMU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udoraciones nocturnas, intolerancia al calor, perdida de pes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rtritis por aumento Ac úr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fecciones, priapismo, estupor, tinnit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olor en el hombro izquierdo por infarto esplénico o periesplenit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cne urticata, síndrome de Sweet, infiltración de neutrófilos a la derm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iebre acompañada de lesiones en la pi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6600" spc="-1" strike="noStrike">
                <a:solidFill>
                  <a:srgbClr val="ccffff"/>
                </a:solidFill>
                <a:latin typeface="Tahoma"/>
              </a:rPr>
              <a:t>LEUCEMIA LINFOCÍTICA CRÓNICA  (LLC)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Tahoma"/>
              </a:rPr>
              <a:t>Por: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Tahoma"/>
              </a:rPr>
              <a:t>Gilberto B. Pérez López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Laborator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Hematocrito disminuido, leucocitosis(casi siempre&gt; 25,000/ul), trombocitosis(1,000,000/ul o más), anemia normocítica, normocrómica, fosfatasa alcalina leucocitaria baja, vitamina B12 y proteínas ligadoras de vitamina B12 elevadas, histamina aumenta en fases tardías. En la medula hay hipercelularidad, principalmente la estirpe mieloide y megacariocítica, blastos medulares normales o levemente aumentados, puede haber fibrosis medul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FASE ACELERADA(síntomas y signos)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iebre inexplicable, dolor en los huesos, artralgias y otros síntomas de la fase crónica como dolor en el cuadrante izquierdo superior. Linfoadenopatías localizadas o difusas, esplenomegal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Laborator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mia puede empeorar, poiquilocitosis y anisocitosis. Blastos mayor o igual 10% en medula o sangre periférica. Basófilos y eosinófilos mayor o igual 20%,nuetrofilo hiposegmentados (Pelger-Huët), células rojas nucleadas, fragmentos nucleados de megacariocitos y plaquetas gigantes. Médula: cambios displásicos 1,2 o 3 linajes, aumento de reticul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RISIS BLAS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lastos mayor o igual a 30% en sangre periférica o medula. Los blastos pueden ser mieloides, linfoides, eritroides o indiferenciados. Esta es clasificada como crisis blástica medular(se comporta como una leucemia aguda), la extramedular se manifiesta en órganos linfoides y otros órga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Trat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nsideraciones generales: alopurin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erapia inicial de citoreducción: INF alfa, hidroxiurea, Leucofere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tros quimioterapéuticos: citarabina, busulfan, homoharringtonine, anagrel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osis altas de quimioterapia con infusión autólogas de stem c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ransplante alogénico de medula o stem cel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NUEV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TITIROSINKINASA( STI-57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loqueadores de la farnesilación de proteínas por 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tratamiento de crisis blástica depende   de el fenotipo de las células blá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Leucemia Juvenil Monomielocític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Definición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es una LMC de tipo adulto, con Ph cromosoma positivo que ocurre en pacientes menores de 15 años pero es raro en menores de 5 añ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Patogénesis: 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esentan mutación en RAS y tambien mutaciones en el gen NF1, estos pacientes presentan neurofibromatosis tipo 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íntomas y signos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malestar, fiebre, infecciones persistentes, sangrados exagerados por mucosas, hepatomegalia a veces, esplenomegalia casi siempre. Linfoadenopatías, lesiones en piel(manchas café con lech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Laboratorio: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 anemia, trombocitopenia, leucocitosis moderada, monocitos 1000 a 100,000, blastos granulocitos inmaduros y células rojas nucleadas. Hb F esta aumentada en 2/3 de los casos. Médula, hipercelularidad( hiperplasia granulocítica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Tratamient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Tratamiento: 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fractaria a quimioterapia, cura poco común con el trasplante, futuro(isotretinoina, antagonista de receptor de IL-1, IL-10, GM-CSF antagonista y bloqueadores de la farnesilación de proteínas por 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EUCEMIA LINFOCÍTICA CRÓNICA  (LLC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LC consiste en una proliferación clonal y acumulación de linfocitos B neoplásicos morfológicamente maduros pero inmunológicamente inmaduros en médula ósea, sangre, ganglios linfáticos y baz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ffff"/>
                </a:solidFill>
                <a:latin typeface="Tahoma"/>
              </a:rPr>
              <a:t>LEUCEMIA LINFOCÍTICA CRÓNICA  (LLC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Epidemiologí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tituye la forma más frecuente de leucemia en occid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promedio de edad de aparición es de 65 añ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yor incidencia de casos en sexo mascul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7T04:30:19Z</dcterms:created>
  <dc:creator>Gilberto B.Pérez López</dc:creator>
  <dc:description/>
  <dc:language>en-US</dc:language>
  <cp:lastModifiedBy>Aptiva</cp:lastModifiedBy>
  <dcterms:modified xsi:type="dcterms:W3CDTF">2001-10-15T12:40:55Z</dcterms:modified>
  <cp:revision>36</cp:revision>
  <dc:subject/>
  <dc:title>LEUCEMIA LINFOCÍTICA CRÓNICA</dc:title>
</cp:coreProperties>
</file>