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himes.wav" ContentType="audio/x-wav"/>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8e2"/>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57160" y="685440"/>
            <a:ext cx="5143680" cy="342900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move the slide</a:t>
            </a:r>
            <a:endParaRPr b="0" lang="en-US" sz="4400" spc="-1" strike="noStrike">
              <a:solidFill>
                <a:srgbClr val="fdbc03"/>
              </a:solidFill>
              <a:latin typeface="Impact"/>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C167-EC14-42FB-8933-F5DC6DDEC02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57160" y="685800"/>
            <a:ext cx="514368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excreción renal de fosfatos es lo suficientemente eficiente, en los individuos normales, para mantener el balance de fosfatos, de tal manera, que la ingesta de hasta 4000mg/dia o 130mmol/dia de fosfatos (dos a tres veces lo usual) producirá un mínimo aumento transitorio en la conc  plasmática del mismo; ésta respuesta es mediada en parte por un efecto directo de la  hiperfosfatemia mínima la cual disminuye la reabsorción tubular, vía  la inhibición de los </a:t>
            </a:r>
            <a:r>
              <a:rPr b="0" i="1" lang="es-ES_tradnl" sz="1200" spc="-1" strike="noStrike">
                <a:solidFill>
                  <a:srgbClr val="000000"/>
                </a:solidFill>
                <a:latin typeface="Times New Roman"/>
              </a:rPr>
              <a:t>co-transportadores de sodio-fosfato</a:t>
            </a:r>
            <a:r>
              <a:rPr b="0" lang="es-ES_tradnl" sz="1200" spc="-1" strike="noStrike">
                <a:solidFill>
                  <a:srgbClr val="000000"/>
                </a:solidFill>
                <a:latin typeface="Times New Roman"/>
              </a:rPr>
              <a:t> en la membrana luminal que permite al fosfato filtrado moverse hacia las células.  El aumento en la secreción de PTH también puede contribuír a la reducción en la reabsorción de fosfatos. Algo del exceso de fosfato puede formar complejos con calcio en el plasma y la consiguiente caída en la conc  plasmática del calcio iónico provee la señal para el aumento en la liberación de PTH.  La ingesta de fosfato &gt;4000mg/dL (130mmol/dia) puede causar ligera elevación en la conc plasmática de fosfatos a medida que la ingesta es distribuída en el transcurso del día.  Si una carga aguda de fosfatos es dada en pocas horas, entonces puede desarrollarse una hiperfosfatemia transitoria.  Hay tres circunstancias generales en la cual ocurre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arga masiva de fosfatos.  Insuficiencia renal.  Aumento en la reabsorción tubular de fosfa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57160" y="685800"/>
            <a:ext cx="514368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ratamiento difiere en la hiperfosfatemia aguda y crón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aguda severa con hipocalcemia sintomática puede ser fatal.  La hiperfosfatemia se resuelve generalmente en 6 a 12 horas si la función renal está intacta.  La tasa de excreción de fosfatos puede incrementarse con infusiones de solución salina aunque ello puede reducir el calcio plasmático por dilución.  Otro método para incrementar la fosfaturia es la administración de inhibidores de la anhidrasa carbónica como la acetazolamida (15mg/kg cada 3 o 4 horas).  En casos de alteraciones de la función renal, considerar la hemodiáli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hiperfostatemia crónica, sobre todo en la insuficiencia renal crónica y la calcinosis tumoral, se debe proceder a disminuír la absorción intestinal con una dieta baja en fosfatos y atrapadores de fosfatos como el carbonato de calci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57160" y="685800"/>
            <a:ext cx="514368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bsorción Intest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La dieta Americana promedio contiene 200 a 500 mg de Mg del cual hay una absorción neta aprox. del 40%.  La absorción del Mg depende de la presencia de otras sustancias tales como el fosfato que forma complejos con el e inhibe su absorción.  A diferencia del calcio y fósforo, la absorción del Mg no es regulada por la 1.25 di hidroxicolecalcif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Los catárticos que contienen Mg, laxantes y antiácidos, pueden agregar un pequeño componente adicional de absorción intestinal de Mg que pueden llevar a la hipermagnesemia en casos de insuficiencia re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creción re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7160" y="685800"/>
            <a:ext cx="514368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10 a 15% de los ptes. hospitalizados desarrolla hipofosfatemia (menor de 2.5mg/dL o 0.80 mmol/L) y un número menor tienen hipofosfatemia severa (menos de 1.0mg/dL o 0.32mmol/L) la cual puede producir síntomas si el pte. también está depletado de fosfatos. Hay tres mecanismos principales por los cuales puede ocurrir hipofosfatemia: redistribución del fosfato hacia las células y depleción del fosfato corporal total debido a disminución de la absorción intestinal y/o aumento de las pérdidas urinari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57160" y="685800"/>
            <a:ext cx="514368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estimulación de la glicólisis incrementa la formación de compuestos de carbohidratos fosforilados en el hígado y músculo esquelético por medio de un proceso estimulado por la insulina.  La fuente de éste fósforo es el pool de fosfato inorgánico difusible en el líquido extracelular.  Como resultado, la concentración plamática de fosfatos y la excreción urinaria de fosfatos, caen rapidamente. Esto ocurre en diversas situacio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cremento de la insulina, particularmente durante la administración de carbohidratos en pacientes alcohólicos desnutridos y en pacientes tratados con hiperalimenta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urante el tratamiento de la cetoacidosis diabética o de la hiperglicemia no cetósica (en la cual la diuresis osmótica inducida por la glucosa conduce a la pérdida urinaria de fosfat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alcalosis respiratoria aguda el bióxido de carbono puede difundir rápidamente a través de las membranas celulares elevándose el pH intracelular, lo cual estimula la actividad de la fosfofructoquinasa  la que a su vez, activa la glucólisis.  Ésta es tal vez, la causa más común de hipofosfatemia en los pacientes hospitalizados y probablemente el factor precipitante de la rabdomiolisis inducida por hipofosfatemia que se observa más frecuentemente en los pacientes alcohól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síndrome de Hungry bone (hueso ávido) se observa en el post operatorio inmediato de paratiroidectomía o tiroidectomía y se caracteriza por el depósito de calcio en los huesos y puede asociarse a hipocalcemia e hipofosfatem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57160" y="685800"/>
            <a:ext cx="514368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ingesta dietética y la absorción intestinal no son normalmente influencias importantes en la homeostasis del fosfato ya que la ingesta generalmente excede las pérdidas gastrointestinales y hay poca regulación de la absorción intestinal (aunque el calcitriol tiene efecto estimulado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rox. el 80% del fosfato dietético es absorbido en el intestino delgado.  Hay además una secreción no regulada en el colon, promediando 150 a 200mg/d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ingesta inadecuada es causa de hipofosfatemia solamente cuando es prolongada y severa (menos de 100mg/dia) o acompañada de diarrea crónic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antiácidos que contienen aluminio y magnesio, atrapan el fosfato ingerido y secretado y pueden llevar a hipofosfatemia, osteomalacia y miopatí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57160" y="685800"/>
            <a:ext cx="514368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riñones ejercen una mayor inflencia en el balance de fosfatos.  En el túbulo proximal se reabsorbe del 60 al 70% de la carga filtrada y en el distal 10 a 15%.  Hay dos reguladores fisiológicos import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concentración plasmática de fosfatos (su disminución estimula la captación de fosfatos por medio del co-transportador sodio-fosfa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TH, la cual incrementa la excreción de fosfatos disminuyendo la actividad del co-transport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aumento de la excreción urinaria puede observarse en</a:t>
            </a:r>
            <a:r>
              <a:rPr b="0" i="1" lang="es-ES_tradnl" sz="1200" spc="-1" strike="noStrike">
                <a:solidFill>
                  <a:srgbClr val="000000"/>
                </a:solidFill>
                <a:latin typeface="Times New Roman"/>
              </a:rPr>
              <a:t> hiperparatiroidismo primario o secundario; deficiencia o resistencia de la vitamina D </a:t>
            </a:r>
            <a:r>
              <a:rPr b="0" lang="es-ES_tradnl" sz="1200" spc="-1" strike="noStrike">
                <a:solidFill>
                  <a:srgbClr val="000000"/>
                </a:solidFill>
                <a:latin typeface="Times New Roman"/>
              </a:rPr>
              <a:t>(interfiere con la absorción intestinal de fosfatos)</a:t>
            </a:r>
            <a:r>
              <a:rPr b="0" i="1" lang="es-ES_tradnl" sz="1200" spc="-1" strike="noStrike">
                <a:solidFill>
                  <a:srgbClr val="000000"/>
                </a:solidFill>
                <a:latin typeface="Times New Roman"/>
              </a:rPr>
              <a:t>; Ingesta reducida de vit.D; disminución de la producción renal de calcitri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7160" y="685800"/>
            <a:ext cx="514368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factores misceláneos que pueden incrementar la excreción urinaria del fosfatos s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uresis osmótic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uréticos de acción proximal (acetazolamida,metolazon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pansión aguda del volum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7160" y="685800"/>
            <a:ext cx="514368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Las manifestaciones dependen en gran parte de la severidad y cronicidad de la depleción de fosfatos, con concentraciones generalmente por debajo de 1.0mg/dL (0.32mmol/L). Las principales condiciones asociadas con hipofosfatemia sintomática son: alcoholismo crónico, hiperalimentación endovenosa sin fosfatos y la ingestión crónica de antiáci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Excepto por los efectos en el metabolismo mineral, los síntomas de hipofosfatemia son debido a dos consecuencias en la depleción de fosfato intracelul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minución de los niveles de 2-3 DPG(difosfoglicerato) de las células roj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niveles de ATP intracelular caen con la hipofosfatemia severa  y aquellas funciones celulares que dependen de los compuestos de fosfatos ricos en energía comienzan a decli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hipofosfatemia severa puede producir una encefalopatía metabólica, debido a  isquemia tisular que se manifiesta con: irritabilidad, parestesias, incluso confusión delirio y c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rdiopulmonar: alteración de la contractilidad miocárdica por la depleción del ATP y falla respiratoria debido a debilidad del diafra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úsculo esquelético y liso: Miopatía proximal, disfagia  e íleo y rabdomioli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función hematológica: Hemólisis, disminución de la fagocitosis y de la quimiotaxis de los granulocitos; trombocitopenia y defecto de la retracción del coágul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7160" y="685800"/>
            <a:ext cx="514368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uando hay dudas del diagnóstico de hipofosfatemia, la excreción urinaria puede resultar de utilidad(en orina de 24 horas) así como la excreción fraccional del fosfatos filtrado.  La excreción urinaria diaria de fosfatos debe ser menor de 100mg y la excreción fraccional por debajo de 5% (el valor normal es de 5 a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mayoría de los pacientes con hipofosfatemia no requerirán otro tratamiento que el de la causa funda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uplementos de vitD</a:t>
            </a:r>
            <a:r>
              <a:rPr b="0" lang="es-ES_tradnl" sz="1200" spc="-1" strike="noStrike">
                <a:solidFill>
                  <a:srgbClr val="000000"/>
                </a:solidFill>
                <a:latin typeface="Times New Roman"/>
              </a:rPr>
              <a:t>: en los casos de deficiencia de la misma. 400a 800 IU/dia  o una dosis mayor cuando ingieren medicamentos que incrementan el metabolismo hepático del calcidi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uplementos de fosfatos</a:t>
            </a:r>
            <a:r>
              <a:rPr b="0" lang="es-ES_tradnl" sz="1200" spc="-1" strike="noStrike">
                <a:solidFill>
                  <a:srgbClr val="000000"/>
                </a:solidFill>
                <a:latin typeface="Times New Roman"/>
              </a:rPr>
              <a:t>: en ptes. asintomáticos o con defecto tubular renal que lleva a pérdida crónica de fosfatos.  El fosfato iv es potencialmente peligroso ya que puede precipitarse con el calcio y llevar a hipocalcemia , falla renal y arritmias. No exceder de 2.5mg(0.08mmol)/Kg de peso en 6 horas y pasar rápidamente a la vía 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posición oral</a:t>
            </a:r>
            <a:r>
              <a:rPr b="0" lang="es-ES_tradnl" sz="1200" spc="-1" strike="noStrike">
                <a:solidFill>
                  <a:srgbClr val="000000"/>
                </a:solidFill>
                <a:latin typeface="Times New Roman"/>
              </a:rPr>
              <a:t>: 2.5 a 3.5 gramos (80 a 110mmol) por día en dosis divid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B8922-B091-480D-9B75-4E3D4A6A5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205CD-F289-48C8-A6A3-C9BE33526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9782C-1B7A-4CBF-BB8A-40267A8F1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D6839-490C-44CD-BB91-CAFBCAA7A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D0A4D-4768-467D-8826-E64E73A3F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62EED-B98C-4DD6-9501-8E16376B2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3023D-F458-4B76-AA1B-C8B032FEB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E529D-A2DC-47A3-B630-F63E402DE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919F1-2904-4FD1-A743-4EB07C6F1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71120" y="53316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DE31C-36C0-43D2-83F0-385761EC1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67AA6-F74F-4D36-B7BD-4AF196753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27CEB-82E3-4C15-8CD7-BD51BF0F1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F4A16-FBA1-41FB-8524-90D2266E2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AEF2A-66BE-4128-BDCE-8D4FDDE47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1B47D-70FA-4954-B68F-4A2BA0D04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9A2FC-BBB7-4F6C-BD8C-B5B30FE58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A657F-23CC-4A7F-A073-0C19F3050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A80B0-CB3E-4207-A05B-85335F399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7A45E-24E3-4A5B-A1DA-BDCC659D9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5E7F-83A6-493C-9EFE-31ACF454A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71120" y="53316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591F7-CBFC-423F-A3C0-11CF44169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BC13-E710-4562-A8E1-AB273AE5A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E813A-EF78-488C-9A7C-0B65DB86A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533160"/>
            <a:ext cx="874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4A0A-3A15-44DB-B723-FC2D0383C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10286640" cy="6858000"/>
            <a:chOff x="0" y="0"/>
            <a:chExt cx="10286640" cy="6858000"/>
          </a:xfrm>
        </p:grpSpPr>
        <p:sp>
          <p:nvSpPr>
            <p:cNvPr id="1" name=""/>
            <p:cNvSpPr/>
            <p:nvPr/>
          </p:nvSpPr>
          <p:spPr>
            <a:xfrm>
              <a:off x="0" y="0"/>
              <a:ext cx="1028664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2" name=""/>
            <p:cNvSpPr/>
            <p:nvPr/>
          </p:nvSpPr>
          <p:spPr>
            <a:xfrm>
              <a:off x="0" y="6477120"/>
              <a:ext cx="1028664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3" name="URBBANND" descr=""/>
            <p:cNvPicPr/>
            <p:nvPr/>
          </p:nvPicPr>
          <p:blipFill>
            <a:blip r:embed="rId2"/>
            <a:srcRect l="0" t="66688" r="0" b="0"/>
            <a:stretch/>
          </p:blipFill>
          <p:spPr>
            <a:xfrm>
              <a:off x="0" y="0"/>
              <a:ext cx="10286640" cy="304920"/>
            </a:xfrm>
            <a:prstGeom prst="rect">
              <a:avLst/>
            </a:prstGeom>
            <a:ln w="0">
              <a:noFill/>
            </a:ln>
          </p:spPr>
        </p:pic>
      </p:grpSp>
      <p:sp>
        <p:nvSpPr>
          <p:cNvPr id="4"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771120" y="632448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14320" y="6324480"/>
            <a:ext cx="32576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372080" y="632448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C59D-6D35-48B0-AF05-EAB6219D5908}" type="slidenum">
              <a:rPr b="0" lang="es-E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10286640" cy="6858000"/>
            <a:chOff x="0" y="0"/>
            <a:chExt cx="10286640" cy="6858000"/>
          </a:xfrm>
        </p:grpSpPr>
        <p:sp>
          <p:nvSpPr>
            <p:cNvPr id="46" name=""/>
            <p:cNvSpPr/>
            <p:nvPr/>
          </p:nvSpPr>
          <p:spPr>
            <a:xfrm>
              <a:off x="0" y="1143000"/>
              <a:ext cx="1028664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47" name=""/>
            <p:cNvSpPr/>
            <p:nvPr/>
          </p:nvSpPr>
          <p:spPr>
            <a:xfrm>
              <a:off x="0" y="6477120"/>
              <a:ext cx="1028664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48" name="URBBANND" descr=""/>
            <p:cNvPicPr/>
            <p:nvPr/>
          </p:nvPicPr>
          <p:blipFill>
            <a:blip r:embed="rId2"/>
            <a:srcRect l="5827" t="8501" r="35924" b="0"/>
            <a:stretch/>
          </p:blipFill>
          <p:spPr>
            <a:xfrm>
              <a:off x="0" y="0"/>
              <a:ext cx="10286640" cy="1436760"/>
            </a:xfrm>
            <a:prstGeom prst="rect">
              <a:avLst/>
            </a:prstGeom>
            <a:ln w="0">
              <a:noFill/>
            </a:ln>
          </p:spPr>
        </p:pic>
      </p:grpSp>
      <p:sp>
        <p:nvSpPr>
          <p:cNvPr id="49" name="PlaceHolder 1"/>
          <p:cNvSpPr>
            <a:spLocks noGrp="1"/>
          </p:cNvSpPr>
          <p:nvPr>
            <p:ph type="title"/>
          </p:nvPr>
        </p:nvSpPr>
        <p:spPr>
          <a:xfrm>
            <a:off x="771120" y="243792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771120" y="624852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14320" y="6248520"/>
            <a:ext cx="32576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372080" y="624852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DE3B-327F-49E5-A6F4-8574454B3FF9}" type="slidenum">
              <a:rPr b="0" lang="es-ES" sz="1400" spc="-1" strike="noStrike">
                <a:solidFill>
                  <a:srgbClr val="eae8e2"/>
                </a:solidFill>
                <a:latin typeface="Arial Narrow"/>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1120" y="243792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CONCENTRACIÓN PLASMÁTICA DE FÓFORO</a:t>
            </a:r>
            <a:endParaRPr b="0" lang="en-US" sz="3600" spc="-1" strike="noStrike">
              <a:solidFill>
                <a:srgbClr val="fdbc03"/>
              </a:solidFill>
              <a:latin typeface="Impact"/>
            </a:endParaRPr>
          </a:p>
        </p:txBody>
      </p:sp>
      <p:sp>
        <p:nvSpPr>
          <p:cNvPr id="98" name="PlaceHolder 2"/>
          <p:cNvSpPr>
            <a:spLocks noGrp="1"/>
          </p:cNvSpPr>
          <p:nvPr>
            <p:ph type="subTitle"/>
          </p:nvPr>
        </p:nvSpPr>
        <p:spPr>
          <a:xfrm>
            <a:off x="1542600" y="3962520"/>
            <a:ext cx="7201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2.5  a  4.5 mg/dL</a:t>
            </a:r>
            <a:endParaRPr b="0" lang="en-US" sz="3200" spc="-1" strike="noStrike">
              <a:solidFill>
                <a:srgbClr val="eae8e2"/>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medido en el laboratorio como fósforo inorgánico)</a:t>
            </a:r>
            <a:endParaRPr b="0" lang="en-US" sz="3200" spc="-1" strike="noStrike">
              <a:solidFill>
                <a:srgbClr val="eae8e2"/>
              </a:solidFill>
              <a:latin typeface="Arial Narrow"/>
            </a:endParaRPr>
          </a:p>
        </p:txBody>
      </p:sp>
    </p:spTree>
  </p:cSld>
  <p:transition>
    <p:fade thruBlk="true"/>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PERFOSFATEMIA  CAUSAS </a:t>
            </a:r>
            <a:endParaRPr b="0" lang="en-US" sz="4400" spc="-1" strike="noStrike">
              <a:solidFill>
                <a:srgbClr val="fdbc03"/>
              </a:solidFill>
              <a:latin typeface="Impact"/>
            </a:endParaRPr>
          </a:p>
        </p:txBody>
      </p:sp>
      <p:sp>
        <p:nvSpPr>
          <p:cNvPr id="116"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1. Carga masiva de fosfatos:</a:t>
            </a:r>
            <a:r>
              <a:rPr b="0" i="1" lang="es-ES_tradnl" sz="3200" spc="-1" strike="noStrike">
                <a:solidFill>
                  <a:srgbClr val="eae8e2"/>
                </a:solidFill>
                <a:latin typeface="Arial Narrow"/>
              </a:rPr>
              <a:t> lisis de tumor, rabdomiólisis, cetoacidosis láctica y diabética, fosfato exógeno.</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2. Insuficiencia renal.</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3. Aumento en la reabsorción tubular:</a:t>
            </a:r>
            <a:r>
              <a:rPr b="0" i="1" lang="es-ES_tradnl" sz="3200" spc="-1" strike="noStrike">
                <a:solidFill>
                  <a:srgbClr val="eae8e2"/>
                </a:solidFill>
                <a:latin typeface="Arial Narrow"/>
              </a:rPr>
              <a:t> hipoparatiroidismo, acromegalia.</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4. Tirotoxicosis.</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dbc03"/>
                </a:solidFill>
                <a:latin typeface="Impact"/>
              </a:rPr>
              <a:t>HIPERFOSFATEMIA DIAGNÓSTICO</a:t>
            </a:r>
            <a:endParaRPr b="0" lang="en-US" sz="4400" spc="-1" strike="noStrike">
              <a:solidFill>
                <a:srgbClr val="fdbc03"/>
              </a:solidFill>
              <a:latin typeface="Impact"/>
            </a:endParaRPr>
          </a:p>
        </p:txBody>
      </p:sp>
      <p:sp>
        <p:nvSpPr>
          <p:cNvPr id="11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Depende ante todo de la historia clínica y el examen físico.</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Aún en ausencia de una historia apropiada, un fosfato sérico mayor de 10mg/dL, implica la presencia de una carga grande de fosfatos.</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Debe establecerse el diagnóstico diferencial entre una hiperfosfatemia aguda y crónica.</a:t>
            </a:r>
            <a:endParaRPr b="0" lang="en-US" sz="2800" spc="-1" strike="noStrike">
              <a:solidFill>
                <a:srgbClr val="eae8e2"/>
              </a:solidFill>
              <a:latin typeface="Arial Narrow"/>
            </a:endParaRPr>
          </a:p>
        </p:txBody>
      </p:sp>
    </p:spTree>
  </p:cSld>
  <p:transition>
    <p:randomBar dir="horz"/>
    <p:sndAc>
      <p:stSnd>
        <p:snd r:embed="rId1"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dbc03"/>
                </a:solidFill>
                <a:latin typeface="Impact"/>
              </a:rPr>
              <a:t>HIPERFOSFATEMIA </a:t>
            </a:r>
            <a:br>
              <a:rPr sz="4400"/>
            </a:br>
            <a:r>
              <a:rPr b="0" lang="es-MX" sz="4400" spc="-1" strike="noStrike">
                <a:solidFill>
                  <a:srgbClr val="fdbc03"/>
                </a:solidFill>
                <a:latin typeface="Impact"/>
              </a:rPr>
              <a:t>SIGNOS Y SÍNTOMAS</a:t>
            </a:r>
            <a:endParaRPr b="0" lang="en-US" sz="4400" spc="-1" strike="noStrike">
              <a:solidFill>
                <a:srgbClr val="fdbc03"/>
              </a:solidFill>
              <a:latin typeface="Impact"/>
            </a:endParaRPr>
          </a:p>
        </p:txBody>
      </p:sp>
      <p:sp>
        <p:nvSpPr>
          <p:cNvPr id="12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Se forman complejos de fosfato de calcio insolubles.</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Los síntomas que se observan, se relacionan a la hipocalcemia resultante y a las calcificaciones metastásicas de los tejidos blandos.</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TETANIA</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HIPOTENSIÓN</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DISFUNCIÓN ORGÁNICA AGUDA (Insuficiencia renal aguda y arresto cardíaco debido a los depósitos de calcio)</a:t>
            </a:r>
            <a:endParaRPr b="0" lang="en-US" sz="2800" spc="-1" strike="noStrike">
              <a:solidFill>
                <a:srgbClr val="eae8e2"/>
              </a:solidFill>
              <a:latin typeface="Arial Narrow"/>
            </a:endParaRPr>
          </a:p>
        </p:txBody>
      </p:sp>
    </p:spTree>
  </p:cSld>
  <p:transition>
    <p:randomBar dir="horz"/>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PERFOSFATEMIA   TRATAMIENTO</a:t>
            </a:r>
            <a:endParaRPr b="0" lang="en-US" sz="4400" spc="-1" strike="noStrike">
              <a:solidFill>
                <a:srgbClr val="fdbc03"/>
              </a:solidFill>
              <a:latin typeface="Impact"/>
            </a:endParaRPr>
          </a:p>
        </p:txBody>
      </p:sp>
      <p:sp>
        <p:nvSpPr>
          <p:cNvPr id="122"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AGUDA: </a:t>
            </a:r>
            <a:r>
              <a:rPr b="0" i="1" lang="es-ES_tradnl" sz="3200" spc="-1" strike="noStrike">
                <a:solidFill>
                  <a:srgbClr val="eae8e2"/>
                </a:solidFill>
                <a:latin typeface="Arial Narrow"/>
              </a:rPr>
              <a:t>fatal si hay hipocalcemia sintomática. Si hay buena función renal se resuelve en 6 a 12 horas.</a:t>
            </a:r>
            <a:br>
              <a:rPr sz="3200"/>
            </a:br>
            <a:r>
              <a:rPr b="0" lang="es-ES_tradnl" sz="3200" spc="-1" strike="noStrike">
                <a:solidFill>
                  <a:srgbClr val="eae8e2"/>
                </a:solidFill>
                <a:latin typeface="Arial Narrow"/>
              </a:rPr>
              <a:t>Incrementar la fosfaturia con infusiones de solución salina o inhibidores de la anhidrasa carbónica (acetazolamida 15mg/Kg cada 3 o 4 horas).</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CRÓNICA: </a:t>
            </a:r>
            <a:r>
              <a:rPr b="0" i="1" lang="es-ES_tradnl" sz="3200" spc="-1" strike="noStrike">
                <a:solidFill>
                  <a:srgbClr val="eae8e2"/>
                </a:solidFill>
                <a:latin typeface="Arial Narrow"/>
              </a:rPr>
              <a:t>dieta baja en fosfatos.</a:t>
            </a:r>
            <a:br>
              <a:rPr sz="3200"/>
            </a:br>
            <a:r>
              <a:rPr b="0" i="1" lang="es-ES_tradnl" sz="3200" spc="-1" strike="noStrike">
                <a:solidFill>
                  <a:srgbClr val="eae8e2"/>
                </a:solidFill>
                <a:latin typeface="Arial Narrow"/>
              </a:rPr>
              <a:t>                    Carbonato de calcio oral.  </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dbc03"/>
                </a:solidFill>
                <a:latin typeface="Impact"/>
              </a:rPr>
              <a:t>MAGNESIO</a:t>
            </a:r>
            <a:endParaRPr b="0" lang="en-US" sz="3600" spc="-1" strike="noStrike">
              <a:solidFill>
                <a:srgbClr val="fdbc03"/>
              </a:solidFill>
              <a:latin typeface="Impact"/>
            </a:endParaRPr>
          </a:p>
        </p:txBody>
      </p:sp>
      <p:sp>
        <p:nvSpPr>
          <p:cNvPr id="124"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Es un catión divalente, distribuído así:</a:t>
            </a:r>
            <a:endParaRPr b="0" lang="en-US" sz="3200" spc="-1" strike="noStrike">
              <a:solidFill>
                <a:srgbClr val="eae8e2"/>
              </a:solidFill>
              <a:latin typeface="Arial Narrow"/>
            </a:endParaRPr>
          </a:p>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66%  está dentro del esqueleto.</a:t>
            </a:r>
            <a:endParaRPr b="0" lang="en-US" sz="3200" spc="-1" strike="noStrike">
              <a:solidFill>
                <a:srgbClr val="eae8e2"/>
              </a:solidFill>
              <a:latin typeface="Arial Narrow"/>
            </a:endParaRPr>
          </a:p>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33%  dentro de los tejidos blandos.</a:t>
            </a:r>
            <a:endParaRPr b="0" lang="en-US" sz="3200" spc="-1" strike="noStrike">
              <a:solidFill>
                <a:srgbClr val="eae8e2"/>
              </a:solidFill>
              <a:latin typeface="Arial Narrow"/>
            </a:endParaRPr>
          </a:p>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1 a 2%  en el espacio extracelular</a:t>
            </a:r>
            <a:endParaRPr b="0" lang="en-US" sz="3200" spc="-1" strike="noStrike">
              <a:solidFill>
                <a:srgbClr val="eae8e2"/>
              </a:solidFill>
              <a:latin typeface="Arial Narrow"/>
            </a:endParaRPr>
          </a:p>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Concentración sérica:  1.8 a 2.2 mg/dL</a:t>
            </a:r>
            <a:endParaRPr b="0" lang="en-US" sz="3200" spc="-1" strike="noStrike">
              <a:solidFill>
                <a:srgbClr val="eae8e2"/>
              </a:solidFill>
              <a:latin typeface="Arial Narrow"/>
            </a:endParaRPr>
          </a:p>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  </a:t>
            </a:r>
            <a:r>
              <a:rPr b="0" lang="es-MX" sz="3200" spc="-1" strike="noStrike">
                <a:solidFill>
                  <a:srgbClr val="eae8e2"/>
                </a:solidFill>
                <a:latin typeface="Arial Narrow"/>
              </a:rPr>
              <a:t>(aprox. 30% unido a proteínas</a:t>
            </a:r>
            <a:endParaRPr b="0" lang="en-US" sz="3200" spc="-1" strike="noStrike">
              <a:solidFill>
                <a:srgbClr val="eae8e2"/>
              </a:solidFill>
              <a:latin typeface="Arial Narrow"/>
            </a:endParaRPr>
          </a:p>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               </a:t>
            </a:r>
            <a:r>
              <a:rPr b="0" lang="es-MX" sz="3200" spc="-1" strike="noStrike">
                <a:solidFill>
                  <a:srgbClr val="eae8e2"/>
                </a:solidFill>
                <a:latin typeface="Arial Narrow"/>
              </a:rPr>
              <a:t>55%  iónico).</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dbc03"/>
                </a:solidFill>
                <a:latin typeface="Impact"/>
              </a:rPr>
              <a:t>ABSORCIÓN INTESTINAL DEL Mg</a:t>
            </a:r>
            <a:endParaRPr b="0" lang="en-US" sz="3600" spc="-1" strike="noStrike">
              <a:solidFill>
                <a:srgbClr val="fdbc03"/>
              </a:solidFill>
              <a:latin typeface="Impact"/>
            </a:endParaRPr>
          </a:p>
        </p:txBody>
      </p:sp>
      <p:sp>
        <p:nvSpPr>
          <p:cNvPr id="126"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No es regulada por la vitamina D activa.</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Depende de otras sustancias en el intestino.</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Los catárticos, laxantes y antiácidos que contienen Mg pueden desencadenar hipermagnesemia en casos de insuf. renal.</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dbc03"/>
                </a:solidFill>
                <a:latin typeface="Impact"/>
              </a:rPr>
              <a:t>EXCRECIÓN RENAL</a:t>
            </a:r>
            <a:endParaRPr b="0" lang="en-US" sz="3600" spc="-1" strike="noStrike">
              <a:solidFill>
                <a:srgbClr val="fdbc03"/>
              </a:solidFill>
              <a:latin typeface="Impact"/>
            </a:endParaRPr>
          </a:p>
        </p:txBody>
      </p:sp>
      <p:sp>
        <p:nvSpPr>
          <p:cNvPr id="12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marL="343080" indent="-343080" algn="ctr">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La excreción urinaria promedia 12 mEq/dia.</a:t>
            </a:r>
            <a:endParaRPr b="0" lang="en-US" sz="3200" spc="-1" strike="noStrike">
              <a:solidFill>
                <a:srgbClr val="eae8e2"/>
              </a:solidFill>
              <a:latin typeface="Arial Narrow"/>
            </a:endParaRPr>
          </a:p>
          <a:p>
            <a:pPr marL="343080" indent="-343080" algn="ctr">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aprox. el 5%  del filtrado glomerular)</a:t>
            </a:r>
            <a:endParaRPr b="0" lang="en-US" sz="3200" spc="-1" strike="noStrike">
              <a:solidFill>
                <a:srgbClr val="eae8e2"/>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dbc03"/>
                </a:solidFill>
                <a:latin typeface="Impact"/>
              </a:rPr>
              <a:t> </a:t>
            </a:r>
            <a:r>
              <a:rPr b="0" lang="es-MX" sz="3600" spc="-1" strike="noStrike">
                <a:solidFill>
                  <a:srgbClr val="fdbc03"/>
                </a:solidFill>
                <a:latin typeface="Impact"/>
              </a:rPr>
              <a:t>CAUSAS DE HIPOMAGNESEMIA</a:t>
            </a:r>
            <a:endParaRPr b="0" lang="en-US" sz="3600" spc="-1" strike="noStrike">
              <a:solidFill>
                <a:srgbClr val="fdbc03"/>
              </a:solidFill>
              <a:latin typeface="Impact"/>
            </a:endParaRPr>
          </a:p>
        </p:txBody>
      </p:sp>
      <p:sp>
        <p:nvSpPr>
          <p:cNvPr id="13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Malnutrición proteico-calórica.</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Esteatorrea.</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Diarrea prolongada.</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Uso de diuréticos del asa.</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Ciplastina, ciclosporina y anfotericina B.</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Alcohol (incrementa la excreción urinaria).</a:t>
            </a:r>
            <a:endParaRPr b="0" lang="en-US" sz="3200" spc="-1" strike="noStrike">
              <a:solidFill>
                <a:srgbClr val="eae8e2"/>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dbc03"/>
                </a:solidFill>
                <a:latin typeface="Impact"/>
              </a:rPr>
              <a:t>SÍNTOMAS DE HIPOMAGNESEMIA</a:t>
            </a:r>
            <a:endParaRPr b="0" lang="en-US" sz="3600" spc="-1" strike="noStrike">
              <a:solidFill>
                <a:srgbClr val="fdbc03"/>
              </a:solidFill>
              <a:latin typeface="Impact"/>
            </a:endParaRPr>
          </a:p>
        </p:txBody>
      </p:sp>
      <p:sp>
        <p:nvSpPr>
          <p:cNvPr id="132"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Hiperexcitabilidad neuromuscular ( tremor, espasticidad, ataxia, nistagmus, convulsiones).</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Puede observarse signos de Chvostek y Trousseau</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Arrirmias cardíacas.</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Puede acompañarse de hipocalcemia.</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dbc03"/>
                </a:solidFill>
                <a:latin typeface="Impact"/>
              </a:rPr>
              <a:t>Tratamiento de la Hipomagnesemia</a:t>
            </a:r>
            <a:endParaRPr b="0" lang="en-US" sz="3600" spc="-1" strike="noStrike">
              <a:solidFill>
                <a:srgbClr val="fdbc03"/>
              </a:solidFill>
              <a:latin typeface="Impact"/>
            </a:endParaRPr>
          </a:p>
        </p:txBody>
      </p:sp>
      <p:sp>
        <p:nvSpPr>
          <p:cNvPr id="134"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Las deficiencias sintomáticas Tx iv o im.</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La administración iv rápida lleva a magnesuria.</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2 gramos de sol. MgSO</a:t>
            </a:r>
            <a:r>
              <a:rPr b="0" lang="es-MX" sz="3200" spc="-1" strike="noStrike" baseline="-25000">
                <a:solidFill>
                  <a:srgbClr val="eae8e2"/>
                </a:solidFill>
                <a:latin typeface="Arial Narrow"/>
              </a:rPr>
              <a:t>4</a:t>
            </a:r>
            <a:r>
              <a:rPr b="0" lang="es-MX" sz="3200" spc="-1" strike="noStrike">
                <a:solidFill>
                  <a:srgbClr val="eae8e2"/>
                </a:solidFill>
                <a:latin typeface="Arial Narrow"/>
              </a:rPr>
              <a:t> 7 H</a:t>
            </a:r>
            <a:r>
              <a:rPr b="0" lang="es-MX" sz="3200" spc="-1" strike="noStrike" baseline="-25000">
                <a:solidFill>
                  <a:srgbClr val="eae8e2"/>
                </a:solidFill>
                <a:latin typeface="Arial Narrow"/>
              </a:rPr>
              <a:t>2</a:t>
            </a:r>
            <a:r>
              <a:rPr b="0" lang="es-MX" sz="3200" spc="-1" strike="noStrike">
                <a:solidFill>
                  <a:srgbClr val="eae8e2"/>
                </a:solidFill>
                <a:latin typeface="Arial Narrow"/>
              </a:rPr>
              <a:t>O al 50% provee 16.2 mEq de Mg  cada 8 horas.</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Vigilar los reflejos tendinosos profundos</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bc03"/>
                </a:solidFill>
                <a:latin typeface="Impact"/>
              </a:rPr>
              <a:t>CAUSAS DE HIPOFOSTATEMIA</a:t>
            </a:r>
            <a:endParaRPr b="0" lang="en-US" sz="4000" spc="-1" strike="noStrike">
              <a:solidFill>
                <a:srgbClr val="fdbc03"/>
              </a:solidFill>
              <a:latin typeface="Impact"/>
            </a:endParaRPr>
          </a:p>
        </p:txBody>
      </p:sp>
      <p:sp>
        <p:nvSpPr>
          <p:cNvPr id="10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Presente en 10-15% de pacientes hospitalizados.</a:t>
            </a:r>
            <a:br>
              <a:rPr sz="3200"/>
            </a:br>
            <a:r>
              <a:rPr b="0" lang="en-US" sz="3200" spc="-1" strike="noStrike">
                <a:solidFill>
                  <a:srgbClr val="eae8e2"/>
                </a:solidFill>
                <a:latin typeface="Arial Narrow"/>
              </a:rPr>
              <a:t>                   </a:t>
            </a:r>
            <a:r>
              <a:rPr b="1" lang="en-US" sz="3200" spc="-1" strike="noStrike">
                <a:solidFill>
                  <a:srgbClr val="eae8e2"/>
                </a:solidFill>
                <a:latin typeface="Arial Narrow"/>
              </a:rPr>
              <a:t>MECANISMOS</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REDISTRIBUCIÓN INTERNA</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DISMINUCIÓN DE LA REABSORCIÓN INTESTINAL</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AUMENTO DE LA EXCRECIÓN URINARIA</a:t>
            </a:r>
            <a:br>
              <a:rPr sz="3200"/>
            </a:br>
            <a:r>
              <a:rPr b="0" lang="en-US" sz="3200" spc="-1" strike="noStrike">
                <a:solidFill>
                  <a:srgbClr val="eae8e2"/>
                </a:solidFill>
                <a:latin typeface="Arial Narrow"/>
              </a:rPr>
              <a:t> </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dbc03"/>
                </a:solidFill>
                <a:latin typeface="Impact"/>
              </a:rPr>
              <a:t>HIPERMAGNESEMIA</a:t>
            </a:r>
            <a:endParaRPr b="0" lang="en-US" sz="3600" spc="-1" strike="noStrike">
              <a:solidFill>
                <a:srgbClr val="fdbc03"/>
              </a:solidFill>
              <a:latin typeface="Impact"/>
            </a:endParaRPr>
          </a:p>
        </p:txBody>
      </p:sp>
      <p:sp>
        <p:nvSpPr>
          <p:cNvPr id="136"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Menos común que la hipomagnesemia.</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Con niveles séricos &lt;3mEq/L los síntomas no son específicos y se requiere astucia para el dx.</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Con concentraciones de 3 a 7 mEq/L se presentan náuseas, vómitos y sedación.</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Depresión del reflejo tendinoso profundo puede ir seguida de bradicardia, hipotensión(5 a 10mEq/L)</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Elevaciones mayores: coma y arresto cardíaco.</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dbc03"/>
                </a:solidFill>
                <a:latin typeface="Impact"/>
              </a:rPr>
              <a:t>CAUSAS DE HIPERMAGNESEMIA</a:t>
            </a:r>
            <a:endParaRPr b="0" lang="en-US" sz="3600" spc="-1" strike="noStrike">
              <a:solidFill>
                <a:srgbClr val="fdbc03"/>
              </a:solidFill>
              <a:latin typeface="Impact"/>
            </a:endParaRPr>
          </a:p>
        </p:txBody>
      </p:sp>
      <p:sp>
        <p:nvSpPr>
          <p:cNvPr id="13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Generalmente ocurre en ptes. con insuf. renal.</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Ingesta de catárticos con Mg, laxantes, antiácidos.</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dbc03"/>
                </a:solidFill>
                <a:latin typeface="Impact"/>
              </a:rPr>
              <a:t>Tratamiento de la Hipermagnesemia</a:t>
            </a:r>
            <a:endParaRPr b="0" lang="en-US" sz="4400" spc="-1" strike="noStrike">
              <a:solidFill>
                <a:srgbClr val="fdbc03"/>
              </a:solidFill>
              <a:latin typeface="Impact"/>
            </a:endParaRPr>
          </a:p>
        </p:txBody>
      </p:sp>
      <p:sp>
        <p:nvSpPr>
          <p:cNvPr id="14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Remover la fuente de ingreso de magnesio.</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Hemodiálisis.</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8e2"/>
                </a:solidFill>
                <a:latin typeface="Arial Narrow"/>
              </a:rPr>
              <a:t>Infusiones rápidas de calcio intravenoso.</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POFOSFATEMIA POR REDISTRIBUCIÓN INTERNA</a:t>
            </a:r>
            <a:endParaRPr b="0" lang="en-US" sz="4400" spc="-1" strike="noStrike">
              <a:solidFill>
                <a:srgbClr val="fdbc03"/>
              </a:solidFill>
              <a:latin typeface="Impact"/>
            </a:endParaRPr>
          </a:p>
        </p:txBody>
      </p:sp>
      <p:sp>
        <p:nvSpPr>
          <p:cNvPr id="102"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lgn="ctr">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8e2"/>
                </a:solidFill>
                <a:latin typeface="Arial Narrow"/>
              </a:rPr>
              <a:t>Glicólisis y formación de carbohidratos fosforilados estimulados por la insulina</a:t>
            </a:r>
            <a:endParaRPr b="0" lang="en-US" sz="32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Administración de carbohidratos a pacientes  alcohólicos desnutridos y en los pacientes con hiperalimentación.</a:t>
            </a:r>
            <a:endParaRPr b="0" lang="en-US" sz="28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Tratamiento de la cetoacidosis diabética</a:t>
            </a:r>
            <a:r>
              <a:rPr b="0" lang="es-ES_tradnl" sz="2400" spc="-1" strike="noStrike">
                <a:solidFill>
                  <a:srgbClr val="eae8e2"/>
                </a:solidFill>
                <a:latin typeface="Arial Narrow"/>
              </a:rPr>
              <a:t> (diuresis osmótica inducida por la hiperglicemia.......pérdida urinaria fosfato).</a:t>
            </a:r>
            <a:endParaRPr b="0" lang="en-US" sz="24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Alcalosis Respiratoria aguda.</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Hungry bone syndrome.</a:t>
            </a:r>
            <a:endParaRPr b="0" lang="en-US" sz="2800" spc="-1" strike="noStrike">
              <a:solidFill>
                <a:srgbClr val="eae8e2"/>
              </a:solidFill>
              <a:latin typeface="Arial Narrow"/>
            </a:endParaRPr>
          </a:p>
        </p:txBody>
      </p:sp>
    </p:spTree>
  </p:cSld>
  <p:transition>
    <p:randomBar dir="horz"/>
    <p:sndAc>
      <p:stSnd>
        <p:snd r:embed="rId1"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bc03"/>
                </a:solidFill>
                <a:latin typeface="Impact"/>
              </a:rPr>
              <a:t>HIPOFOSFATEMIA POR </a:t>
            </a:r>
            <a:r>
              <a:rPr b="0" lang="en-US" sz="3200" spc="-1" strike="noStrike">
                <a:solidFill>
                  <a:srgbClr val="fdbc03"/>
                </a:solidFill>
                <a:latin typeface="Impact"/>
              </a:rPr>
              <a:t> </a:t>
            </a:r>
            <a:r>
              <a:rPr b="1" lang="en-US" sz="3200" spc="-1" strike="noStrike">
                <a:solidFill>
                  <a:srgbClr val="fdbc03"/>
                </a:solidFill>
                <a:latin typeface="Impact"/>
              </a:rPr>
              <a:t>DISMINUCIÓN DE LA REABSORCIÓN INTESTINAL</a:t>
            </a:r>
            <a:endParaRPr b="0" lang="en-US" sz="3200" spc="-1" strike="noStrike">
              <a:solidFill>
                <a:srgbClr val="fdbc03"/>
              </a:solidFill>
              <a:latin typeface="Impact"/>
            </a:endParaRPr>
          </a:p>
        </p:txBody>
      </p:sp>
      <p:sp>
        <p:nvSpPr>
          <p:cNvPr id="104"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El 80% es absorbido en el intestino delgado.</a:t>
            </a:r>
            <a:endParaRPr b="0" lang="en-US" sz="3200" spc="-1" strike="noStrike">
              <a:solidFill>
                <a:srgbClr val="eae8e2"/>
              </a:solidFill>
              <a:latin typeface="Arial Narrow"/>
            </a:endParaRPr>
          </a:p>
          <a:p>
            <a:pPr marL="343080" indent="-343080" algn="ctr">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Secreción no regulada en colon (150-200mg/dia).</a:t>
            </a:r>
            <a:br>
              <a:rPr sz="2800"/>
            </a:br>
            <a:r>
              <a:rPr b="0" lang="es-ES_tradnl" sz="2800" spc="-1" strike="noStrike">
                <a:solidFill>
                  <a:srgbClr val="eae8e2"/>
                </a:solidFill>
                <a:latin typeface="Arial Narrow"/>
              </a:rPr>
              <a:t> </a:t>
            </a:r>
            <a:endParaRPr b="0" lang="en-US" sz="28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Ingesta inadecuada (menos de 100mg/dia).</a:t>
            </a:r>
            <a:br>
              <a:rPr sz="3200"/>
            </a:br>
            <a:r>
              <a:rPr b="0" lang="es-ES_tradnl" sz="3200" spc="-1" strike="noStrike">
                <a:solidFill>
                  <a:srgbClr val="eae8e2"/>
                </a:solidFill>
                <a:latin typeface="Arial Narrow"/>
              </a:rPr>
              <a:t> </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Antiácidos que contienen aluminio y magnesio.</a:t>
            </a:r>
            <a:br>
              <a:rPr sz="3200"/>
            </a:br>
            <a:r>
              <a:rPr b="0" lang="es-ES_tradnl" sz="3200" spc="-1" strike="noStrike">
                <a:solidFill>
                  <a:srgbClr val="eae8e2"/>
                </a:solidFill>
                <a:latin typeface="Arial Narrow"/>
              </a:rPr>
              <a:t> </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Esteatorrea y diarrea crónica.</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bc03"/>
                </a:solidFill>
                <a:latin typeface="Impact"/>
              </a:rPr>
              <a:t>HIPOFOSFATEMIA POR AUMENTO EN LA EXCRECIÓN URINARIA</a:t>
            </a:r>
            <a:endParaRPr b="0" lang="en-US" sz="3200" spc="-1" strike="noStrike">
              <a:solidFill>
                <a:srgbClr val="fdbc03"/>
              </a:solidFill>
              <a:latin typeface="Impact"/>
            </a:endParaRPr>
          </a:p>
        </p:txBody>
      </p:sp>
      <p:sp>
        <p:nvSpPr>
          <p:cNvPr id="106"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9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8e2"/>
                </a:solidFill>
                <a:latin typeface="Arial Narrow"/>
              </a:rPr>
              <a:t>Papel del riñón en el balance de fosfatos. 70% reabs. proximal y 10-15% distal.</a:t>
            </a:r>
            <a:endParaRPr b="0" lang="en-US" sz="3600" spc="-1" strike="noStrike">
              <a:solidFill>
                <a:srgbClr val="eae8e2"/>
              </a:solidFill>
              <a:latin typeface="Arial Narrow"/>
            </a:endParaRPr>
          </a:p>
          <a:p>
            <a:pPr marL="343080" indent="-343080">
              <a:spcBef>
                <a:spcPts val="9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8e2"/>
                </a:solidFill>
                <a:latin typeface="Arial Narrow"/>
              </a:rPr>
              <a:t>Hiperparatiroidismo.</a:t>
            </a:r>
            <a:endParaRPr b="0" lang="en-US" sz="3600" spc="-1" strike="noStrike">
              <a:solidFill>
                <a:srgbClr val="eae8e2"/>
              </a:solidFill>
              <a:latin typeface="Arial Narrow"/>
            </a:endParaRPr>
          </a:p>
          <a:p>
            <a:pPr marL="343080" indent="-343080">
              <a:spcBef>
                <a:spcPts val="9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8e2"/>
                </a:solidFill>
                <a:latin typeface="Arial Narrow"/>
              </a:rPr>
              <a:t>Deficiencia o resistencia de la vit. D</a:t>
            </a:r>
            <a:endParaRPr b="0" lang="en-US" sz="36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8e2"/>
                </a:solidFill>
                <a:latin typeface="Arial Narrow"/>
              </a:rPr>
              <a:t>Disminución de la producción renal de calcitriol</a:t>
            </a:r>
            <a:r>
              <a:rPr b="0" lang="es-ES_tradnl" sz="3200" spc="-1" strike="noStrike">
                <a:solidFill>
                  <a:srgbClr val="eae8e2"/>
                </a:solidFill>
                <a:latin typeface="Arial Narrow"/>
              </a:rPr>
              <a:t>.</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dbc03"/>
                </a:solidFill>
                <a:latin typeface="Impact"/>
              </a:rPr>
              <a:t>HIPOFOSFATEMIA </a:t>
            </a:r>
            <a:endParaRPr b="0" lang="en-US" sz="4800" spc="-1" strike="noStrike">
              <a:solidFill>
                <a:srgbClr val="fdbc03"/>
              </a:solidFill>
              <a:latin typeface="Impact"/>
            </a:endParaRPr>
          </a:p>
        </p:txBody>
      </p:sp>
      <p:sp>
        <p:nvSpPr>
          <p:cNvPr id="10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lgn="ctr">
              <a:spcBef>
                <a:spcPts val="9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8e2"/>
                </a:solidFill>
                <a:latin typeface="Arial Narrow"/>
              </a:rPr>
              <a:t>Factores misceláneos que aumentan la excreción urinaria de fosfatos</a:t>
            </a:r>
            <a:endParaRPr b="0" lang="en-US" sz="36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8e2"/>
                </a:solidFill>
                <a:latin typeface="Arial Narrow"/>
              </a:rPr>
              <a:t>DIURESIS OSMÓTICA.</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8e2"/>
                </a:solidFill>
                <a:latin typeface="Arial Narrow"/>
              </a:rPr>
              <a:t>DIURÉTICOS DE ACCIÓN PROXIMAL:</a:t>
            </a:r>
            <a:endParaRPr b="0" lang="en-US" sz="32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8e2"/>
                </a:solidFill>
                <a:latin typeface="Arial Narrow"/>
              </a:rPr>
              <a:t>                     </a:t>
            </a:r>
            <a:r>
              <a:rPr b="0" lang="es-ES_tradnl" sz="2400" spc="-1" strike="noStrike">
                <a:solidFill>
                  <a:srgbClr val="eae8e2"/>
                </a:solidFill>
                <a:latin typeface="Arial Narrow"/>
              </a:rPr>
              <a:t>Acetazolamida, Metolazona</a:t>
            </a:r>
            <a:endParaRPr b="0" lang="en-US" sz="24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8e2"/>
                </a:solidFill>
                <a:latin typeface="Arial Narrow"/>
              </a:rPr>
              <a:t>EXPANSIÓN AGUDA DEL VOLUMEN</a:t>
            </a:r>
            <a:endParaRPr b="0" lang="en-US" sz="3200" spc="-1" strike="noStrike">
              <a:solidFill>
                <a:srgbClr val="eae8e2"/>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dbc03"/>
                </a:solidFill>
                <a:latin typeface="Impact"/>
              </a:rPr>
              <a:t>SIGNOS Y SÍNTOMAS</a:t>
            </a:r>
            <a:endParaRPr b="0" lang="en-US" sz="4400" spc="-1" strike="noStrike">
              <a:solidFill>
                <a:srgbClr val="fdbc03"/>
              </a:solidFill>
              <a:latin typeface="Impact"/>
            </a:endParaRPr>
          </a:p>
        </p:txBody>
      </p:sp>
      <p:sp>
        <p:nvSpPr>
          <p:cNvPr id="11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fontScale="94000"/>
          </a:bodyPr>
          <a:p>
            <a:pPr marL="501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eae8e2"/>
                </a:solidFill>
                <a:latin typeface="Arial Narrow"/>
              </a:rPr>
              <a:t> </a:t>
            </a:r>
            <a:r>
              <a:rPr b="0" lang="es-MX" sz="3600" spc="-1" strike="noStrike" u="sng">
                <a:solidFill>
                  <a:srgbClr val="eae8e2"/>
                </a:solidFill>
                <a:uFillTx/>
                <a:latin typeface="Arial Narrow"/>
              </a:rPr>
              <a:t>La depleción intracelular de fosfatos lleva a dos hechos trascendentales causantes de los síntomas</a:t>
            </a:r>
            <a:endParaRPr b="0" lang="en-US" sz="3600" spc="-1" strike="noStrike">
              <a:solidFill>
                <a:srgbClr val="eae8e2"/>
              </a:solidFill>
              <a:latin typeface="Arial Narrow"/>
            </a:endParaRPr>
          </a:p>
          <a:p>
            <a:pPr marL="501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a:p>
            <a:pPr marL="501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  </a:t>
            </a:r>
            <a:r>
              <a:rPr b="0" lang="es-MX" sz="2800" spc="-1" strike="noStrike">
                <a:solidFill>
                  <a:srgbClr val="eae8e2"/>
                </a:solidFill>
                <a:latin typeface="Arial Narrow"/>
              </a:rPr>
              <a:t>1.   Caída de los niveles de 2-3-DPG, incrementando la afinidad</a:t>
            </a:r>
            <a:endParaRPr b="0" lang="en-US" sz="2800" spc="-1" strike="noStrike">
              <a:solidFill>
                <a:srgbClr val="eae8e2"/>
              </a:solidFill>
              <a:latin typeface="Arial Narrow"/>
            </a:endParaRPr>
          </a:p>
          <a:p>
            <a:pPr marL="501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de la Hb por el oxígeno y reduciendo su liberación a nivel tisular.</a:t>
            </a:r>
            <a:endParaRPr b="0" lang="en-US" sz="2800" spc="-1" strike="noStrike">
              <a:solidFill>
                <a:srgbClr val="eae8e2"/>
              </a:solidFill>
              <a:latin typeface="Arial Narrow"/>
            </a:endParaRPr>
          </a:p>
          <a:p>
            <a:pPr marL="501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2.   Caída de los niveles de ATP intracelular, lo que lleva a un</a:t>
            </a:r>
            <a:endParaRPr b="0" lang="en-US" sz="2800" spc="-1" strike="noStrike">
              <a:solidFill>
                <a:srgbClr val="eae8e2"/>
              </a:solidFill>
              <a:latin typeface="Arial Narrow"/>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8e2"/>
                </a:solidFill>
                <a:latin typeface="Arial Narrow"/>
              </a:rPr>
              <a:t>  </a:t>
            </a:r>
            <a:r>
              <a:rPr b="0" lang="es-MX" sz="2800" spc="-1" strike="noStrike">
                <a:solidFill>
                  <a:srgbClr val="eae8e2"/>
                </a:solidFill>
                <a:latin typeface="Arial Narrow"/>
              </a:rPr>
              <a:t>deterioro de aquellas funciones que dependen de los compuestos de fosfatos ricos en energía.</a:t>
            </a:r>
            <a:br>
              <a:rPr sz="2400"/>
            </a:br>
            <a:endParaRPr b="0" lang="en-US" sz="2800" spc="-1" strike="noStrike">
              <a:solidFill>
                <a:srgbClr val="eae8e2"/>
              </a:solidFill>
              <a:latin typeface="Arial Narrow"/>
            </a:endParaRPr>
          </a:p>
        </p:txBody>
      </p:sp>
    </p:spTree>
  </p:cSld>
  <p:transition>
    <p:randomBar dir="horz"/>
    <p:sndAc>
      <p:stSnd>
        <p:snd r:embed="rId1"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Signos y síntomas</a:t>
            </a:r>
            <a:br>
              <a:rPr sz="3600"/>
            </a:br>
            <a:r>
              <a:rPr b="0" lang="en-US" sz="2800" spc="-1" strike="noStrike">
                <a:solidFill>
                  <a:srgbClr val="fdbc03"/>
                </a:solidFill>
                <a:latin typeface="Impact"/>
              </a:rPr>
              <a:t>Dependen de la severidad y cronicidad</a:t>
            </a:r>
            <a:br>
              <a:rPr sz="2800"/>
            </a:br>
            <a:r>
              <a:rPr b="0" lang="en-US" sz="2800" spc="-1" strike="noStrike">
                <a:solidFill>
                  <a:srgbClr val="fdbc03"/>
                </a:solidFill>
                <a:latin typeface="Impact"/>
              </a:rPr>
              <a:t>(generalmente &lt;1.0mg/dL)</a:t>
            </a:r>
            <a:endParaRPr b="0" lang="en-US" sz="2800" spc="-1" strike="noStrike">
              <a:solidFill>
                <a:srgbClr val="fdbc03"/>
              </a:solidFill>
              <a:latin typeface="Impact"/>
            </a:endParaRPr>
          </a:p>
        </p:txBody>
      </p:sp>
      <p:sp>
        <p:nvSpPr>
          <p:cNvPr id="112"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8e2"/>
                </a:solidFill>
                <a:latin typeface="Arial Narrow"/>
              </a:rPr>
              <a:t>Sistema nervioso central: </a:t>
            </a:r>
            <a:r>
              <a:rPr b="1" i="1" lang="es-ES_tradnl" sz="3200" spc="-1" strike="noStrike">
                <a:solidFill>
                  <a:srgbClr val="eae8e2"/>
                </a:solidFill>
                <a:latin typeface="Arial Narrow"/>
              </a:rPr>
              <a:t>irritabilidad, parestesias, confusión, delirio y coma.</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8e2"/>
                </a:solidFill>
                <a:latin typeface="Arial Narrow"/>
              </a:rPr>
              <a:t>Cardiopulmonar: </a:t>
            </a:r>
            <a:r>
              <a:rPr b="1" i="1" lang="es-ES_tradnl" sz="3200" spc="-1" strike="noStrike">
                <a:solidFill>
                  <a:srgbClr val="eae8e2"/>
                </a:solidFill>
                <a:latin typeface="Arial Narrow"/>
              </a:rPr>
              <a:t>contractilidad miocárdica alterada por depleción de ATP, falla resp.</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8e2"/>
                </a:solidFill>
                <a:latin typeface="Arial Narrow"/>
              </a:rPr>
              <a:t>Sistema muscular: </a:t>
            </a:r>
            <a:r>
              <a:rPr b="1" i="1" lang="es-ES_tradnl" sz="3200" spc="-1" strike="noStrike">
                <a:solidFill>
                  <a:srgbClr val="eae8e2"/>
                </a:solidFill>
                <a:latin typeface="Arial Narrow"/>
              </a:rPr>
              <a:t>miopatía proximal, disfagia e íleo y rabdomiólisis.</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8e2"/>
                </a:solidFill>
                <a:latin typeface="Arial Narrow"/>
              </a:rPr>
              <a:t>Disfunción hematológica:</a:t>
            </a:r>
            <a:r>
              <a:rPr b="1" i="1" lang="es-ES_tradnl" sz="3200" spc="-1" strike="noStrike">
                <a:solidFill>
                  <a:srgbClr val="eae8e2"/>
                </a:solidFill>
                <a:latin typeface="Arial Narrow"/>
              </a:rPr>
              <a:t> hemólisis, disminución fagocitosis y tromocitopenia.</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1120" y="533160"/>
            <a:ext cx="874404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POFOSFATEMIA TRATAMIENTO</a:t>
            </a:r>
            <a:endParaRPr b="0" lang="en-US" sz="4400" spc="-1" strike="noStrike">
              <a:solidFill>
                <a:srgbClr val="fdbc03"/>
              </a:solidFill>
              <a:latin typeface="Impact"/>
            </a:endParaRPr>
          </a:p>
        </p:txBody>
      </p:sp>
      <p:sp>
        <p:nvSpPr>
          <p:cNvPr id="114"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Tratar la causa fundamental.</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Suplementos de vitamina D.</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Cuidado con los fosfatos intravenosos.</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8e2"/>
                </a:solidFill>
                <a:latin typeface="Arial Narrow"/>
              </a:rPr>
              <a:t>Tratamiento oral: 2.5 a 3.5g (80-110mmol)/dia.</a:t>
            </a:r>
            <a:br>
              <a:rPr sz="3200"/>
            </a:br>
            <a:br>
              <a:rPr sz="3200"/>
            </a:br>
            <a:r>
              <a:rPr b="0" i="1" lang="es-ES_tradnl" sz="3200" spc="-1" strike="noStrike">
                <a:solidFill>
                  <a:srgbClr val="eae8e2"/>
                </a:solidFill>
                <a:latin typeface="Arial Narrow"/>
              </a:rPr>
              <a:t>Los síntomas raramente ocurren a menos que la conc. plasmática sea &lt;2mg/dL</a:t>
            </a:r>
            <a:endParaRPr b="0" lang="en-US" sz="3200" spc="-1" strike="noStrike">
              <a:solidFill>
                <a:srgbClr val="eae8e2"/>
              </a:solidFill>
              <a:latin typeface="Arial Narrow"/>
            </a:endParaRPr>
          </a:p>
        </p:txBody>
      </p:sp>
    </p:spTree>
  </p:cSld>
  <p:transition>
    <p:randomBar dir="horz"/>
    <p:sndAc>
      <p:stSnd>
        <p:snd r:embed="rId1"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21:14:54Z</dcterms:created>
  <dc:creator>DIEGO REY</dc:creator>
  <dc:description/>
  <dc:language>en-US</dc:language>
  <cp:lastModifiedBy>Leopoldo D. Salvatierra</cp:lastModifiedBy>
  <dcterms:modified xsi:type="dcterms:W3CDTF">2001-12-24T05:19:24Z</dcterms:modified>
  <cp:revision>14</cp:revision>
  <dc:subject/>
  <dc:title>CAUSAS DE HIPOFOSTATEMIA</dc:title>
</cp:coreProperties>
</file>