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31F-775D-4AA5-839F-E3EDC4E0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BE8-D531-4DBA-9B7D-781B184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093-02AC-4135-8C6B-F2DAE59C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A5B-A44A-4D03-B418-8429A475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6162-B754-402D-9C17-E0FE4487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2265-0642-46EC-8338-86DB1BB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6E5-D0C6-405E-B8DC-2D52AA6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E982-881B-4D19-8A3B-580FFFE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63B-D4A9-41E7-89CA-89B214B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5ADD-71C9-4F41-87A8-B1B4E674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B520-57BD-4CA4-8A7B-649E199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0D0-887F-4A7E-8817-55C4E09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32A0-6616-4728-A306-45D787B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EF1C-2A44-4D9A-BF0D-61FE4BC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E5B-9046-4DF1-8EF9-96290FD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D4B9-C884-442F-A44A-3A40A254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2CBD-857A-475E-9044-A2D01D4A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138-ADD1-4A92-9595-47E246A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CB5-8D07-4942-A072-063E705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19B-68A7-42DF-97E1-3D5D89C4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C03-790C-4298-AB99-E5E19F4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EB7-91DB-4A73-906E-4478D18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9A8-8EEA-4F81-93B2-72862D3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7B3-8EF9-4710-B63A-1C81AAF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6C5-AA6B-499D-BEA3-F463727159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1BB9-4E7C-45EB-8F0A-D8AFFF66D1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43000" y="533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PN, Anemia Aplásica 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d. Mielodisplásic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895480"/>
            <a:ext cx="7315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do 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elia Vásquez                              Alberto Barb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lissa Sánchez                          Jackson 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amy Kim                                   Ulises Urru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airton Fre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ómo probar que es HP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idencia de hemólisis intra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moside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nsitividad al comple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uebas de hemólisis ác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ueba de agua azuca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cremento en la agregabilidad de las plaquetas debido a que tiene mayor sensibilidad a la trombina una vez que el C3b se une a la plaque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ABORATO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hallazgos de laboratorio incluye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.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emia con reticulocitos y algunos hematíes nucleados en el frotis sanguíneo, pero sin esferocitosis ni otra alteraciones características de la morfología eritrocit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.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ucopenia moderada. Los granulocitos presentan una actividad baja de la fosfatasa alcal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.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obocitopenia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.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to nivel de bilirrubina indirecta y de LD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UEBAS DE LABORATO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ueba del agua azucarad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c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ngre+ citrato de sodio u oxalat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onio y potasio+9c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e sol. de sacar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sol. de sacarosa proporciona un medi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erza iónica baja que favorece la fijación 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mento al eritrocito y éste por 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gerada sensibilidad se lisa en este med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UEBA DE LABORATO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ueb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 lisis en suero ácido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(prueba de Ham)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: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s específico para la HP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) Se incuban los eritrocitos con suero acidificado (pH 6.5-7)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H ligeramente ácido facilita la hemólisis por el complem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) Se activa la vía alterna del comple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) Cuando sus componentes se depositan sobre los eritrocitos, éstas se lisan (10-50% del total de eritroc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UEBAS DE LABORATO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Prueba de Cros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)Se mezcla los eritrocitos del paciente con Trombina-suero acidifi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trombina tiene la propiedad de activar los componentes hemolíticos en la prueba, pero no en el su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si nunca da resultado positivo cuando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ueba del suero acidificado es neg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TRATAMIEN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imariamente de sostén en forma de transfusiones, anticoagulantes, corticostero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pacientes con aplasia medular inducida por HPN, se puede sugerir transplante de médula ó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ANEMIA APLÁSIC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DEFINI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anemia aplásica es una rara enfermedad que consiste en una pancitopenia con hipocelularidad de la médula ós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s picos de mayor frecue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ños mayores y hombres jóve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ultos mayores de ambos sex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EPIDEMI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" name="incidencia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CLASIFICACIÓN DE ANEMIA APLÁSIC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Hered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dquirida( secunda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Idiopática: 65% de los c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HEMOGLOBINURIA PAROXÍSTICA NOCTUR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ETIO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Adquirid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Radiación: secuela ag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Químicos: benzeno es el más asoci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Drog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Regularmente producen depresión medu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ntineoplásicos: agentes alquilantes, antimetabolitos, antimit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Reacción idiosincr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DROG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NTINEOPL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SOCIACION BAJA PROB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LORAMFENI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QUINACR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NTICONVUL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HIDANTO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ARBAMAZEP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IMETID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Adquirid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ecciones: Hepatitis seronegativas. EB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munológicas: LES, fasciitis eosinofílica, enfermedad de injerto contra el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mbar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moglobinuria paroxística noct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Desórdenes congéni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nemia de Fanconi: desorden autosómico reces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pancitopenia progresiv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fragilidad cromosómic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normalidades del desarrollo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lto riesgo  de malig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</a:rPr>
              <a:t>CONGÉNI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Síndrome de Schwachman- Diamond. Malabsorción , pancre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Disqueratosis congénita: desorden ligado a X que curas con leucoplasia de membrana mucosa, uñas distrófic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FISIO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Severo daño al compartimento hematopoyétic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La médula ósea es sustituida por tejido adipo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Disminución de las células CD-3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Anormalidades cualitativ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número limitado de clonas de Stem cells operativ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telómero acor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oper Black"/>
                <a:ea typeface="ＭＳ Ｐゴシック"/>
              </a:rPr>
              <a:t>Fisio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Hay daño a la Stem Cell en la AA hered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No hay anormalidad genética adquirida que cause enfermedad hipoprolifer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La AA no parece ser el result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estroma defectuos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déficit en producción de factores de cr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DAÑO POR DROG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canismo alterado de las drogas como probable mecan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ogas y químicos polares                compuesto electrofilico altamente reactivo                toxico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gador de macromoléc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ceso de intermediarios tóxicos o falla en detoxificar puede estar determinado genéticamente y para drogas específ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581280"/>
            <a:ext cx="838080" cy="914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Daño mediado por inmunida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uperación de la función medular con Tx con Globulina antilinfocito( AL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lla en transplante de MO sin inmunosupre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es simple ausencia de Ste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ay un factor del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EFINI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trastorn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quirido de la célula germinal hem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yética, caracterizado por la producción anormal de todas las líneas sanguíneas y una sensibilidad mayor a la lisis intravascular eritrocitaria mediada por el complemento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H</a:t>
            </a:r>
            <a:r>
              <a:rPr b="0" lang="es-ES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emoglobinur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presencia de hemoglobina, en la orina)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</a:t>
            </a:r>
            <a:r>
              <a:rPr b="0" lang="es-ES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paroxística noctur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hemólisis intravascular, ocurre en crisi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urante la noc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Sistema Inmu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mento de células T citotóxicas en pacientes con AA que disminuyen con buena terapia inmunosupres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fil de citoquin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uesta tipo Th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N-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N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L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ducen expresión de FAS en las CD-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pop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Cuadro Clínico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La historia Clínic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cio: abrupto ó insidio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ngrado: síntoma tempr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ombocitopenia: sangrado masivo raro , peligro SNC y re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íntomas de anem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ección: poco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ólo síntomas del sistema Hematoló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955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Cuadro Clínico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El Examen Fís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tequias y equim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morragias retinal( puede estar pres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ran cuidado al examen pélvico y ginecológ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lid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chas café au Lait y baja estatura: Anemia de Fanco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ípico Linfadenopatías y esplenomeg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Laborato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Sang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frotis: eritrocitos grandes, pocas plaquetas y granuloc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VCM: aume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IDE: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Reticulocitos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oper Black"/>
                <a:ea typeface="ＭＳ Ｐゴシック"/>
              </a:rPr>
              <a:t>L: normal o dismin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frotis%20AA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ASPIRADO DE M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édula ós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tis de aspirado: células rojas, linfocitos residuales y células estromal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0" y="2590920"/>
            <a:ext cx="3809880" cy="2539800"/>
            <a:chOff x="4572000" y="2590920"/>
            <a:chExt cx="3809880" cy="2539800"/>
          </a:xfrm>
        </p:grpSpPr>
        <p:pic>
          <p:nvPicPr>
            <p:cNvPr id="213" name="aspirado%20de%20MO" descr=""/>
            <p:cNvPicPr/>
            <p:nvPr/>
          </p:nvPicPr>
          <p:blipFill>
            <a:blip r:embed="rId2"/>
            <a:stretch/>
          </p:blipFill>
          <p:spPr>
            <a:xfrm>
              <a:off x="4572000" y="2590920"/>
              <a:ext cx="380988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 txBox="1"/>
            <p:nvPr/>
          </p:nvSpPr>
          <p:spPr>
            <a:xfrm>
              <a:off x="4572000" y="2590920"/>
              <a:ext cx="3809880" cy="2539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BIOPSIA de M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jido adiposo en su mayoría, menos de 25% de tejido hematopoyético. En los severos hay casi 100% de gr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 megacariocitos son escasos ó no se 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Aa%20BIOPSIA" descr=""/>
          <p:cNvPicPr/>
          <p:nvPr/>
        </p:nvPicPr>
        <p:blipFill>
          <a:blip r:embed="rId3"/>
          <a:stretch/>
        </p:blipFill>
        <p:spPr>
          <a:xfrm>
            <a:off x="5148360" y="1981080"/>
            <a:ext cx="280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Estudios auxiliar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ptura de cromos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udios cromosó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uebas serológ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  <a:ea typeface="ＭＳ Ｐゴシック"/>
              </a:rPr>
              <a:t>Tratamien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plante de médula ó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munosupres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das de sopor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tras terap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ÍNDROMES MIELODISPLÁS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EFINI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alteraciones primarias neoplásicas de las células precursoras pluripotenciales que predominan en personas de edad avan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racterizada por una o más citopenias en sangre periférica junto con anormalidades de la maduración (displasia) en la 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olucionan en forma progresiva hasta transformar en un estado que no se distingue de la leucemia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be a una mutación del gen del fosfatidilinositol glucano A (PIGA) que afecta a las células pluripotenciales que es esencial para la síntesis de la mólecula de glucosilfosfatidil-inositol (GPI), necesaria para la unión de proteínas que impida la lisis por el comp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bido a la predisposición de los síndromes mielodisplasicos para terminar en leucemias, es común el término “preleucemias” para describir estos síndr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evolución a leucemia no es obliga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chos mueren de complicaciones de la citopenia antes de llegar a la leucemi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índromes Mielodisplásico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iferaciones clonales de células germinales medulares multipot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ienen la capacidad para diferenciarse hasta estadíos maduros pero lo hacen de forma desorden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élulas resultantes  son deficitarias en número, función y morf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l tiempo se va perdiendo la capacidad diferenciadora y emerge una clara tendencia hacia la transformación leucé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pacientes fallecen a menudo como consecuencia de las complicaciones derivadas del agravamiento de las citopenias. (an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lesión de la célula germinal multipotente da lugar a alteraciones morfológicas que se manifiestan en una parte de los elementos formes representativos de cada ser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el fenómeno de la doble pobla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s hipercrómicos de la eritrona enferma y elementos normocro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e granulosa:  neutrófilos desprovistos de gránulos con otros dotados de granulación nor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emia refractaria sideroblás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ación de la membrana nu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icultad del paso del acido fólico hacia el núc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malías morfoló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resentan a edades superiores a los 50 años, exposición al benceno e irradicación pueden estar relacionados con su aparic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encuentran involucrados los oncogenes ras y f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ctivación del gen n-ras se demuestra en un 35% de los casos y el fms en un 1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patogen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 haber hematopoyesis extramedular con hepatomegalia y esplenomegal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ntomas iniciales: debilidad y fatiga debido a la anemia, hemorragias y fiebre asociada a infec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UADRO CLÍN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las primeras etapas los pacientes pueden estar asintomá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cubiertos de forma casual durante el examen físico o análisis sangu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íntomas anémicos (palidez, debilidad, fatiga, astenia,mareos, palpitaciones, cefalea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puede h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azo palpable en el 20% y hepatomegalia en el 10% de los cas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ncitopenia, 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perplasia medular y alteraciones dismielopoyéticas en los precursores de una o más líneas celular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n presenta hemorragias e infecciones recurr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gre Perifér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H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CM más de 100 f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openias (bi o Pancitope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openia y trombocitopenia (ra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itosis o ligera macrocito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socitosis inten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trocitos policromatofílicos (Reticulocitos, Anemia secundaria a proliferación medular defectuo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FISIO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n descendencia clonal de las células madres con mutación en P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los eritrocitos afectados al no poder sintetizar la GPI, no podrán unirse las proteínas que inactivan al complemento en su membrana lo que contribuye  a que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vuelvan excepcionalmente sensibles a la lisis por la fijación del comple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re estas proteínas están el factor acelerador de la desintegración del complemento (FAD) que inhibe la activación espontánea de la vía alterna o clásica del complemento y el CD59 que impide la forma-ción de MAC al inactivar la convertasa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792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gre Periférica: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erpos de Howell-Jolly, anillos de Cabot y punteado basófi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trocitos nucleados o displ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ófilos maduros con pocas lobulaciones nucleares y escasas granul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ulocitos inmad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itosis (L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quetas grandes sin grán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megacariocitos (rar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106668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ula Ós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ularidad: normal o hipocel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úmero de bla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roblastos en ani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bios Displásicos: en la mayoría de los paci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ula Óse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dores de diseritropoy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malías nucle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ciones citoplas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ncronía núcleo-citoplás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bios disgranulopoyé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sez de granul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o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ula Ós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ciones  dismegacariopoye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megacarioc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acariocitos con muchos nucleos pequeños e hiperlobu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0968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teraciones Inmunológ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1676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523880"/>
            <a:ext cx="8229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nfopen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as células 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élulas T co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 respuesta a la acción mitóge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ciencia en la producción de interferó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D4+ con CD8+ normales 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sencia de células CD34+ asociados a progresión a leucemia aguda y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la superviv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a capacidad de adhesión plaque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apacidad fagocítica, quimiotáxica y bactericida de los neutrófilos y macrófagos, predisponiendo a infec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os Citogené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ciones Cromosómicas (50% SMD primario y 75% SMD relacionado con el tratamien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malías cromosómicas frecuentes (no asociadas a SMD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somía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q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somía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00"/>
                </a:solidFill>
                <a:latin typeface="Arial Black"/>
              </a:rPr>
              <a:t>Síndrome Mielodisplásico</a:t>
            </a:r>
            <a:endParaRPr b="0" lang="en-US" sz="4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os Citogené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ía Mole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aciones: oncogenes ras, cFms, p53 y RB en las células hematopoyé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rdida del gen del factor regulador del interferón (IRF-1) - alteración 5q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nación de un gen de fusión tel-PDGF-beta. -LMMC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137160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Diagnóstico de Laborator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LASIFIC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lasificación del grupo FAB según cuenta de blastos y grados de dispoyesis en 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) Anemia Refractaria (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) Anemia Refractaria con Sideroblastos Anilados (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.) Anemia Refractaria con Exceso de Blastos (AREB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4.) Anemia Refractaria con Exceso de Blastos en Trasnformación (AREB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.) Leucemia Mielomonocítica Crónica (LMMC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nemia Refractaria (AR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anemia refractaria a toda forma convencional de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lmente macrocíticos, pero pueden ser micro o normocí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ticulopenia en sangre perifé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 hipercelular con hiperplasia eritroide y signo de diseritropoy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ucocitos y plaquetas generalmente nor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abitualmente no hay blastos, de haberlos son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lt; 1% en sangre perifé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nemia Refractar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2" name="MDS-RA-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DS-RA-2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051080" cy="3238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495320" y="182880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de M.O en Giemsa x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240" y="510552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de M.O en Giemsa x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p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-7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Anemia Refractaria con Sideroblastos Anillado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mejante a AR excepto que los sideroblastos anillados constituyen más del 15% de las células nucleadas de la 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lmente macrocítica, en menor frecuencia microcí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casionalmente población dual nomocrómica e hipocró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gre periférica: reticulopenia y leucope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: hipercelular con diseritropoyesis megaloblasto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granulopoyesis y dismegacariopoyesis l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lt; 5% de blastos en 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354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nemia Refractaria con Sideroblastos Anill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9" name="mds-ring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038720" cy="4495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371600" y="1828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de M.O en tinción Giemsa 1000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Anemia Refractaria con Exceso de Bla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itopenia en 2 líneas celulares y anormalidades cualitativas (diseritropoyesis) en las 3 lín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rmocítica o macrocítica con l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ticulope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te disgranulopoyesis, neutrófilos con escasa granulación y anomalías Seudo-Pelger Hu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ë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&lt;5% de blastos en sangre perifé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quetas gigantes, con granulación y aberración funcional. Puede haber micromegacariocitos circul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: hipercelular, hiperplasia granulocítica y eritrocitaria. 5-25% de blas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99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Anemia Refractaria con Exceso de Blasto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84" name="mds-exc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19920" cy="4343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78560" y="152388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de M.O en tinción Giemsa x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-7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Anemias Refractarias con Exceso de Blastos en Transforma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s trastornos no encuadra en los demás categorías de SM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nta exceso de blastos y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o bastoncillos de Auer en los precursores granulocíticos en 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son típicos de leucemia aguda por exceso de blastos (&lt;30%) no es suficiente para incluirla en é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rso más corto de sobrevivencia y mayor riesgo de evolucionar a leucemia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% o más de blastos en sangre perifé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: 20-30% de blas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8496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Anemias Refractarias con Exceso de Blastos en Transforma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89" name="mds-transf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371240" y="17524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de M.O en Giemsa x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6084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eucemia Mielomonocítica Crónica</a:t>
            </a: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le conoce también como leucemia mielomo-nocítica subaguda o eritromonocítica c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0-50% tienen esplenomegalia y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o hepatomegalia. No hay linfadenopat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ngre periférica: Predominio monocítica;&lt;5% de blastos. Neutrofil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:  hipercelular, proliferación mielocítica anormal e inmadura. Eritroblastos con núcleos múltiples con características megablast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eucemia Mielomonocítica Crónic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trocitos macrocíticos, Hb media de 11.7g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ombocitopenia 60%, con plaquetas gigantes e hipogran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enta leucocitaria variable. Monocitosis con anormalidades morfológ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 elevación séricos y urinarias de lisoz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eucemia Mielomonocítica crónic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96" name="clas2blood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572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19320" y="5943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523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otis en S.P en Giemsa x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40" y="-206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ÍNDROMES MIELODISPLÁS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301" name=""/>
            <p:cNvGrpSpPr/>
            <p:nvPr/>
          </p:nvGrpSpPr>
          <p:grpSpPr>
            <a:xfrm>
              <a:off x="5400" y="2880"/>
              <a:ext cx="9132120" cy="6851520"/>
              <a:chOff x="5400" y="2880"/>
              <a:chExt cx="9132120" cy="68515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400" y="2880"/>
                <a:ext cx="2337120" cy="444960"/>
                <a:chOff x="5400" y="2880"/>
                <a:chExt cx="233712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6880" y="288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00" y="288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342880" y="2880"/>
                <a:ext cx="1446840" cy="444960"/>
                <a:chOff x="2342880" y="2880"/>
                <a:chExt cx="144684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394720" y="28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342880" y="28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790440" y="2880"/>
                <a:ext cx="1595160" cy="444960"/>
                <a:chOff x="3790440" y="2880"/>
                <a:chExt cx="159516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841920" y="288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90440" y="288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385960" y="2880"/>
                <a:ext cx="869760" cy="444960"/>
                <a:chOff x="5385960" y="2880"/>
                <a:chExt cx="869760" cy="444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437800" y="288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EB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385960" y="288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256080" y="2880"/>
                <a:ext cx="1433880" cy="444960"/>
                <a:chOff x="6256080" y="2880"/>
                <a:chExt cx="1433880" cy="444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307920" y="288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EB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256080" y="288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690680" y="2880"/>
                <a:ext cx="1446840" cy="444960"/>
                <a:chOff x="7690680" y="2880"/>
                <a:chExt cx="1446840" cy="444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742520" y="28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MM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690680" y="28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400" y="447840"/>
                <a:ext cx="2337120" cy="444960"/>
                <a:chOff x="5400" y="447840"/>
                <a:chExt cx="2337120" cy="444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6880" y="44784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ritropoyesi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400" y="44784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342880" y="447840"/>
                <a:ext cx="1446840" cy="444960"/>
                <a:chOff x="2342880" y="447840"/>
                <a:chExt cx="144684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394720" y="4478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342880" y="4478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790440" y="447840"/>
                <a:ext cx="1595160" cy="444960"/>
                <a:chOff x="3790440" y="447840"/>
                <a:chExt cx="159516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841920" y="44784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790440" y="44784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385960" y="447840"/>
                <a:ext cx="869760" cy="444960"/>
                <a:chOff x="5385960" y="447840"/>
                <a:chExt cx="86976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437800" y="44784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385960" y="44784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256080" y="447840"/>
                <a:ext cx="1433880" cy="444960"/>
                <a:chOff x="6256080" y="447840"/>
                <a:chExt cx="143388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307920" y="44784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56080" y="44784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690680" y="447840"/>
                <a:ext cx="1446840" cy="444960"/>
                <a:chOff x="7690680" y="447840"/>
                <a:chExt cx="1446840" cy="444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742520" y="4478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690680" y="4478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00" y="893160"/>
                <a:ext cx="2337120" cy="444960"/>
                <a:chOff x="5400" y="893160"/>
                <a:chExt cx="2337120" cy="444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6880" y="89316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emoglobin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00" y="89316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42880" y="893160"/>
                <a:ext cx="1446840" cy="444960"/>
                <a:chOff x="2342880" y="893160"/>
                <a:chExt cx="1446840" cy="444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394720" y="8931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42880" y="8931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790440" y="893160"/>
                <a:ext cx="1595160" cy="444960"/>
                <a:chOff x="3790440" y="893160"/>
                <a:chExt cx="1595160" cy="444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841920" y="89316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790440" y="89316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385960" y="893160"/>
                <a:ext cx="869760" cy="444960"/>
                <a:chOff x="5385960" y="893160"/>
                <a:chExt cx="869760" cy="444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437800" y="89316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385960" y="89316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256080" y="893160"/>
                <a:ext cx="1433880" cy="444960"/>
                <a:chOff x="6256080" y="893160"/>
                <a:chExt cx="1433880" cy="444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307920" y="89316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56080" y="89316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690680" y="893160"/>
                <a:ext cx="1446840" cy="444960"/>
                <a:chOff x="7690680" y="893160"/>
                <a:chExt cx="1446840" cy="444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742520" y="8931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90680" y="8931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400" y="1338480"/>
                <a:ext cx="2337120" cy="444960"/>
                <a:chOff x="5400" y="1338480"/>
                <a:chExt cx="2337120" cy="444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6880" y="133848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granulopoyesi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00" y="133848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342880" y="1338480"/>
                <a:ext cx="1446840" cy="444960"/>
                <a:chOff x="2342880" y="1338480"/>
                <a:chExt cx="1446840" cy="444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394720" y="13384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42880" y="13384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790440" y="1338480"/>
                <a:ext cx="1595160" cy="444960"/>
                <a:chOff x="3790440" y="1338480"/>
                <a:chExt cx="1595160" cy="444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41920" y="133848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neralmente No</a:t>
                  </a: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(si hay es leve)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790440" y="133848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385960" y="1338480"/>
                <a:ext cx="869760" cy="444960"/>
                <a:chOff x="5385960" y="1338480"/>
                <a:chExt cx="869760" cy="444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437800" y="133848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85960" y="133848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256080" y="1338480"/>
                <a:ext cx="1433880" cy="444960"/>
                <a:chOff x="6256080" y="1338480"/>
                <a:chExt cx="1433880" cy="444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307920" y="133848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256080" y="133848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690680" y="1338480"/>
                <a:ext cx="1446840" cy="444960"/>
                <a:chOff x="7690680" y="1338480"/>
                <a:chExt cx="1446840" cy="4449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742520" y="13384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neralmente Sí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690680" y="13384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00" y="1783440"/>
                <a:ext cx="2337120" cy="1064160"/>
                <a:chOff x="5400" y="1783440"/>
                <a:chExt cx="2337120" cy="10641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6880" y="1783440"/>
                  <a:ext cx="223380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ucopeni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00" y="1783440"/>
                  <a:ext cx="233712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342880" y="1783440"/>
                <a:ext cx="1446840" cy="1064160"/>
                <a:chOff x="2342880" y="1783440"/>
                <a:chExt cx="1446840" cy="1064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394720" y="1783440"/>
                  <a:ext cx="134280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uede haber o  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42880" y="1783440"/>
                  <a:ext cx="144684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790440" y="1783440"/>
                <a:ext cx="1595160" cy="1064160"/>
                <a:chOff x="3790440" y="1783440"/>
                <a:chExt cx="1595160" cy="10641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841920" y="1783440"/>
                  <a:ext cx="149184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ólo Neutropeni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790440" y="1783440"/>
                  <a:ext cx="159516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385960" y="1783440"/>
                <a:ext cx="869760" cy="1064160"/>
                <a:chOff x="5385960" y="1783440"/>
                <a:chExt cx="869760" cy="10641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5437800" y="1783440"/>
                  <a:ext cx="76608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385960" y="1783440"/>
                  <a:ext cx="86976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256080" y="1783440"/>
                <a:ext cx="1433880" cy="1064160"/>
                <a:chOff x="6256080" y="1783440"/>
                <a:chExt cx="1433880" cy="1064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307920" y="1783440"/>
                  <a:ext cx="133020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56080" y="1783440"/>
                  <a:ext cx="143388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7690680" y="1783440"/>
                <a:ext cx="1446840" cy="1064160"/>
                <a:chOff x="7690680" y="1783440"/>
                <a:chExt cx="1446840" cy="10641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742520" y="1783440"/>
                  <a:ext cx="1342800" cy="10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90680" y="1783440"/>
                  <a:ext cx="1446840" cy="106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400" y="2847960"/>
                <a:ext cx="2337120" cy="444960"/>
                <a:chOff x="5400" y="2847960"/>
                <a:chExt cx="2337120" cy="4449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6880" y="284796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onocito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00" y="284796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42880" y="2847960"/>
                <a:ext cx="1446840" cy="444960"/>
                <a:chOff x="2342880" y="2847960"/>
                <a:chExt cx="1446840" cy="444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394720" y="28479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 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42880" y="28479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790440" y="2847960"/>
                <a:ext cx="1595160" cy="444960"/>
                <a:chOff x="3790440" y="2847960"/>
                <a:chExt cx="1595160" cy="444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841920" y="284796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790440" y="284796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5385960" y="2847960"/>
                <a:ext cx="869760" cy="444960"/>
                <a:chOff x="5385960" y="2847960"/>
                <a:chExt cx="869760" cy="444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437800" y="284796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385960" y="284796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256080" y="2847960"/>
                <a:ext cx="1433880" cy="444960"/>
                <a:chOff x="6256080" y="2847960"/>
                <a:chExt cx="1433880" cy="4449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307920" y="284796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, Normal o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6080" y="284796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7690680" y="2847960"/>
                <a:ext cx="1446840" cy="444960"/>
                <a:chOff x="7690680" y="2847960"/>
                <a:chExt cx="1446840" cy="4449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7742520" y="28479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y Monocitos</a:t>
                  </a: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690680" y="28479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400" y="3293280"/>
                <a:ext cx="2337120" cy="444960"/>
                <a:chOff x="5400" y="3293280"/>
                <a:chExt cx="2337120" cy="4449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6880" y="329328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erpos de Au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400" y="329328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2342880" y="3293280"/>
                <a:ext cx="1446840" cy="444960"/>
                <a:chOff x="2342880" y="3293280"/>
                <a:chExt cx="1446840" cy="444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394720" y="32932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342880" y="32932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790440" y="3293280"/>
                <a:ext cx="1595160" cy="444960"/>
                <a:chOff x="3790440" y="3293280"/>
                <a:chExt cx="1595160" cy="4449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841920" y="329328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790440" y="329328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385960" y="3293280"/>
                <a:ext cx="869760" cy="444960"/>
                <a:chOff x="5385960" y="3293280"/>
                <a:chExt cx="869760" cy="444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437800" y="329328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385960" y="329328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56080" y="3293280"/>
                <a:ext cx="1433880" cy="444960"/>
                <a:chOff x="6256080" y="3293280"/>
                <a:chExt cx="1433880" cy="4449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307920" y="329328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uede hab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256080" y="329328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7690680" y="3293280"/>
                <a:ext cx="1446840" cy="444960"/>
                <a:chOff x="7690680" y="3293280"/>
                <a:chExt cx="1446840" cy="4449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742520" y="32932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uede hab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90680" y="32932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400" y="3738240"/>
                <a:ext cx="2337120" cy="444960"/>
                <a:chOff x="5400" y="3738240"/>
                <a:chExt cx="2337120" cy="4449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6880" y="373824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megacariopoyesi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400" y="373824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342880" y="3738240"/>
                <a:ext cx="1446840" cy="444960"/>
                <a:chOff x="2342880" y="3738240"/>
                <a:chExt cx="1446840" cy="444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394720" y="37382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342880" y="37382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790440" y="3738240"/>
                <a:ext cx="1595160" cy="444960"/>
                <a:chOff x="3790440" y="3738240"/>
                <a:chExt cx="1595160" cy="444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841920" y="373824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</a:t>
                  </a:r>
                  <a:r>
                    <a:rPr b="0" lang="es-ES_tradnl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(Si hay, es leve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790440" y="373824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385960" y="3738240"/>
                <a:ext cx="869760" cy="444960"/>
                <a:chOff x="5385960" y="3738240"/>
                <a:chExt cx="869760" cy="4449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437800" y="373824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85960" y="373824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6256080" y="3738240"/>
                <a:ext cx="1433880" cy="444960"/>
                <a:chOff x="6256080" y="3738240"/>
                <a:chExt cx="1433880" cy="4449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6307920" y="373824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256080" y="373824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7690680" y="3738240"/>
                <a:ext cx="1446840" cy="444960"/>
                <a:chOff x="7690680" y="3738240"/>
                <a:chExt cx="1446840" cy="444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742520" y="37382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690680" y="37382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400" y="4183560"/>
                <a:ext cx="2337120" cy="444960"/>
                <a:chOff x="5400" y="4183560"/>
                <a:chExt cx="2337120" cy="444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6880" y="418356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laqueta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00" y="418356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2880" y="4183560"/>
                <a:ext cx="1446840" cy="444960"/>
                <a:chOff x="2342880" y="4183560"/>
                <a:chExt cx="1446840" cy="444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94720" y="41835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 o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42880" y="41835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790440" y="4183560"/>
                <a:ext cx="1595160" cy="444960"/>
                <a:chOff x="3790440" y="4183560"/>
                <a:chExt cx="1595160" cy="444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841920" y="418356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 o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790440" y="418356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385960" y="4183560"/>
                <a:ext cx="869760" cy="444960"/>
                <a:chOff x="5385960" y="4183560"/>
                <a:chExt cx="869760" cy="4449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437800" y="418356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385960" y="418356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6256080" y="4183560"/>
                <a:ext cx="1433880" cy="444960"/>
                <a:chOff x="6256080" y="4183560"/>
                <a:chExt cx="1433880" cy="444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307920" y="418356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56080" y="418356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690680" y="4183560"/>
                <a:ext cx="1446840" cy="444960"/>
                <a:chOff x="7690680" y="4183560"/>
                <a:chExt cx="1446840" cy="444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742520" y="41835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rmal o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90680" y="41835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00" y="4628880"/>
                <a:ext cx="2337120" cy="444960"/>
                <a:chOff x="5400" y="4628880"/>
                <a:chExt cx="2337120" cy="444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6880" y="462888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lastos en s.p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400" y="462888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342880" y="4628880"/>
                <a:ext cx="1446840" cy="444960"/>
                <a:chOff x="2342880" y="4628880"/>
                <a:chExt cx="1446840" cy="444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394720" y="46288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342880" y="46288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790440" y="4628880"/>
                <a:ext cx="1595160" cy="444960"/>
                <a:chOff x="3790440" y="4628880"/>
                <a:chExt cx="1595160" cy="444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841920" y="462888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790440" y="462888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385960" y="4628880"/>
                <a:ext cx="869760" cy="444960"/>
                <a:chOff x="5385960" y="4628880"/>
                <a:chExt cx="869760" cy="444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7800" y="462888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385960" y="462888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256080" y="4628880"/>
                <a:ext cx="1433880" cy="444960"/>
                <a:chOff x="6256080" y="4628880"/>
                <a:chExt cx="1433880" cy="444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307920" y="462888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ó = 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56080" y="462888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690680" y="4628880"/>
                <a:ext cx="1446840" cy="444960"/>
                <a:chOff x="7690680" y="4628880"/>
                <a:chExt cx="1446840" cy="444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742520" y="462888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0680" y="462888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400" y="5073840"/>
                <a:ext cx="2337120" cy="444960"/>
                <a:chOff x="5400" y="5073840"/>
                <a:chExt cx="2337120" cy="4449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6880" y="507384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lastos en M.O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00" y="507384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342880" y="5073840"/>
                <a:ext cx="1446840" cy="444960"/>
                <a:chOff x="2342880" y="5073840"/>
                <a:chExt cx="1446840" cy="444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394720" y="50738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342880" y="50738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790440" y="5073840"/>
                <a:ext cx="1595160" cy="444960"/>
                <a:chOff x="3790440" y="5073840"/>
                <a:chExt cx="1595160" cy="444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841920" y="507384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790440" y="507384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385960" y="5073840"/>
                <a:ext cx="869760" cy="444960"/>
                <a:chOff x="5385960" y="5073840"/>
                <a:chExt cx="869760" cy="4449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437800" y="507384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-20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385960" y="507384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256080" y="5073840"/>
                <a:ext cx="1433880" cy="444960"/>
                <a:chOff x="6256080" y="5073840"/>
                <a:chExt cx="1433880" cy="444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307920" y="507384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-30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56080" y="507384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690680" y="5073840"/>
                <a:ext cx="1446840" cy="444960"/>
                <a:chOff x="7690680" y="5073840"/>
                <a:chExt cx="1446840" cy="444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742520" y="50738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-20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0680" y="50738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400" y="5519160"/>
                <a:ext cx="2337120" cy="444960"/>
                <a:chOff x="5400" y="5519160"/>
                <a:chExt cx="2337120" cy="444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6880" y="551916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eloblastos 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00" y="551916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342880" y="5519160"/>
                <a:ext cx="1446840" cy="444960"/>
                <a:chOff x="2342880" y="5519160"/>
                <a:chExt cx="1446840" cy="444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94720" y="55191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42880" y="55191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790440" y="5519160"/>
                <a:ext cx="1595160" cy="444960"/>
                <a:chOff x="3790440" y="5519160"/>
                <a:chExt cx="1595160" cy="444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841920" y="551916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790440" y="551916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385960" y="5519160"/>
                <a:ext cx="869760" cy="444960"/>
                <a:chOff x="5385960" y="5519160"/>
                <a:chExt cx="869760" cy="4449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437800" y="551916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385960" y="551916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256080" y="5519160"/>
                <a:ext cx="1433880" cy="444960"/>
                <a:chOff x="6256080" y="5519160"/>
                <a:chExt cx="1433880" cy="444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307920" y="551916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56080" y="551916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690680" y="5519160"/>
                <a:ext cx="1446840" cy="444960"/>
                <a:chOff x="7690680" y="5519160"/>
                <a:chExt cx="1446840" cy="444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742520" y="551916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690680" y="551916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400" y="5964120"/>
                <a:ext cx="2337120" cy="444960"/>
                <a:chOff x="5400" y="5964120"/>
                <a:chExt cx="2337120" cy="444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880" y="596412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s-E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deroblastos 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0" y="596412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342880" y="5964120"/>
                <a:ext cx="1446840" cy="444960"/>
                <a:chOff x="2342880" y="5964120"/>
                <a:chExt cx="1446840" cy="4449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394720" y="596412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42880" y="596412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790440" y="5964120"/>
                <a:ext cx="1595160" cy="444960"/>
                <a:chOff x="3790440" y="5964120"/>
                <a:chExt cx="1595160" cy="444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841920" y="596412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790440" y="596412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385960" y="5964120"/>
                <a:ext cx="869760" cy="444960"/>
                <a:chOff x="5385960" y="5964120"/>
                <a:chExt cx="869760" cy="444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437800" y="596412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385960" y="596412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56080" y="5964120"/>
                <a:ext cx="1433880" cy="444960"/>
                <a:chOff x="6256080" y="5964120"/>
                <a:chExt cx="1433880" cy="4449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307920" y="596412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56080" y="596412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690680" y="5964120"/>
                <a:ext cx="1446840" cy="444960"/>
                <a:chOff x="7690680" y="5964120"/>
                <a:chExt cx="1446840" cy="4449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742520" y="596412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690680" y="596412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400" y="6409440"/>
                <a:ext cx="2337120" cy="444960"/>
                <a:chOff x="5400" y="6409440"/>
                <a:chExt cx="2337120" cy="444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880" y="6409440"/>
                  <a:ext cx="2233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cidenci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400" y="6409440"/>
                  <a:ext cx="23371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342880" y="6409440"/>
                <a:ext cx="1446840" cy="444960"/>
                <a:chOff x="2342880" y="6409440"/>
                <a:chExt cx="1446840" cy="444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2394720" y="64094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42880" y="64094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790440" y="6409440"/>
                <a:ext cx="1595160" cy="444960"/>
                <a:chOff x="3790440" y="6409440"/>
                <a:chExt cx="1595160" cy="4449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41920" y="6409440"/>
                  <a:ext cx="1491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790440" y="6409440"/>
                  <a:ext cx="15951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385960" y="6409440"/>
                <a:ext cx="869760" cy="444960"/>
                <a:chOff x="5385960" y="6409440"/>
                <a:chExt cx="869760" cy="444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437800" y="6409440"/>
                  <a:ext cx="7660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385960" y="6409440"/>
                  <a:ext cx="8697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56080" y="6409440"/>
                <a:ext cx="1433880" cy="444960"/>
                <a:chOff x="6256080" y="6409440"/>
                <a:chExt cx="1433880" cy="44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307920" y="6409440"/>
                  <a:ext cx="13302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56080" y="6409440"/>
                  <a:ext cx="143388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690680" y="6409440"/>
                <a:ext cx="1446840" cy="444960"/>
                <a:chOff x="7690680" y="6409440"/>
                <a:chExt cx="1446840" cy="4449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742520" y="6409440"/>
                  <a:ext cx="134280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90680" y="6409440"/>
                  <a:ext cx="14468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4" name=""/>
            <p:cNvSpPr/>
            <p:nvPr/>
          </p:nvSpPr>
          <p:spPr>
            <a:xfrm>
              <a:off x="0" y="0"/>
              <a:ext cx="9143640" cy="6858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FISIO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la HPN, al no haber inactivación de la cascada del complemento, se termina en la formación del complejo de ataque de membrana (MA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MA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es un canal transmembranal que rompe l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 del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trocito y no le permite mantener su equilibrio osmótico y químico por lo que cual se produce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emólisis intravascul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El sistema lítico se forma entre pH 6.7 a 7.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activación del complemento en las plaquetas que carecen esas proteínas, estimula a la agregación plaquetaria que probablemente lleva a la  tromb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685800" y="609480"/>
            <a:ext cx="7848360" cy="5638680"/>
            <a:chOff x="685800" y="609480"/>
            <a:chExt cx="7848360" cy="5638680"/>
          </a:xfrm>
        </p:grpSpPr>
        <p:grpSp>
          <p:nvGrpSpPr>
            <p:cNvPr id="556" name=""/>
            <p:cNvGrpSpPr/>
            <p:nvPr/>
          </p:nvGrpSpPr>
          <p:grpSpPr>
            <a:xfrm>
              <a:off x="691920" y="616320"/>
              <a:ext cx="7835400" cy="5623920"/>
              <a:chOff x="691920" y="616320"/>
              <a:chExt cx="7835400" cy="56239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691920" y="616320"/>
                <a:ext cx="2611440" cy="936720"/>
                <a:chOff x="691920" y="616320"/>
                <a:chExt cx="2611440" cy="936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49880" y="61632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btipo FAB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91920" y="61632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303720" y="616320"/>
                <a:ext cx="2611800" cy="936720"/>
                <a:chOff x="3303720" y="616320"/>
                <a:chExt cx="2611800" cy="9367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362040" y="616320"/>
                  <a:ext cx="249480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obrevida</a:t>
                  </a:r>
                  <a:r>
                    <a:rPr b="0" lang="es-ES_tradn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 meses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303720" y="616320"/>
                  <a:ext cx="261180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5915880" y="616320"/>
                <a:ext cx="2611440" cy="936720"/>
                <a:chOff x="5915880" y="616320"/>
                <a:chExt cx="2611440" cy="9367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973840" y="61632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ransformación leucémic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915880" y="61632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691920" y="1553400"/>
                <a:ext cx="2611440" cy="936720"/>
                <a:chOff x="691920" y="1553400"/>
                <a:chExt cx="2611440" cy="9367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49880" y="155340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91920" y="155340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3303720" y="1553400"/>
                <a:ext cx="2611800" cy="936720"/>
                <a:chOff x="3303720" y="1553400"/>
                <a:chExt cx="2611800" cy="936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362040" y="1553400"/>
                  <a:ext cx="249480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7 (19 – 64 )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303720" y="1553400"/>
                  <a:ext cx="261180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915880" y="1553400"/>
                <a:ext cx="2611440" cy="936720"/>
                <a:chOff x="5915880" y="1553400"/>
                <a:chExt cx="2611440" cy="9367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973840" y="155340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%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915880" y="155340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91920" y="2490840"/>
                <a:ext cx="2611440" cy="936720"/>
                <a:chOff x="691920" y="2490840"/>
                <a:chExt cx="2611440" cy="9367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49880" y="249084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SA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91920" y="249084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303720" y="2490840"/>
                <a:ext cx="2611800" cy="936720"/>
                <a:chOff x="3303720" y="2490840"/>
                <a:chExt cx="2611800" cy="9367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362040" y="2490840"/>
                  <a:ext cx="249480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9 ( 21 –76 )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03720" y="2490840"/>
                  <a:ext cx="261180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5915880" y="2490840"/>
                <a:ext cx="2611440" cy="936720"/>
                <a:chOff x="5915880" y="2490840"/>
                <a:chExt cx="2611440" cy="9367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973840" y="249084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 %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915880" y="249084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91920" y="3428280"/>
                <a:ext cx="2611440" cy="936720"/>
                <a:chOff x="691920" y="3428280"/>
                <a:chExt cx="2611440" cy="93672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749880" y="342828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EB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91920" y="342828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3303720" y="3428280"/>
                <a:ext cx="2611800" cy="936720"/>
                <a:chOff x="3303720" y="3428280"/>
                <a:chExt cx="2611800" cy="93672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3362040" y="3428280"/>
                  <a:ext cx="249480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 ( 7 – 15 )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303720" y="3428280"/>
                  <a:ext cx="261180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915880" y="3428280"/>
                <a:ext cx="2611440" cy="936720"/>
                <a:chOff x="5915880" y="3428280"/>
                <a:chExt cx="2611440" cy="9367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973840" y="342828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 %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915880" y="342828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91920" y="4365720"/>
                <a:ext cx="2611440" cy="937440"/>
                <a:chOff x="691920" y="4365720"/>
                <a:chExt cx="2611440" cy="9374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49880" y="4365720"/>
                  <a:ext cx="2495160" cy="93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EB-t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1920" y="4365720"/>
                  <a:ext cx="2611440" cy="93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3303720" y="4365720"/>
                <a:ext cx="2611800" cy="937440"/>
                <a:chOff x="3303720" y="4365720"/>
                <a:chExt cx="2611800" cy="9374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362040" y="4365720"/>
                  <a:ext cx="2494800" cy="93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 ( 5 – 12 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3720" y="4365720"/>
                  <a:ext cx="2611800" cy="93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915880" y="4365720"/>
                <a:ext cx="2611440" cy="937440"/>
                <a:chOff x="5915880" y="4365720"/>
                <a:chExt cx="2611440" cy="9374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973840" y="4365720"/>
                  <a:ext cx="2495160" cy="93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8 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15880" y="4365720"/>
                  <a:ext cx="2611440" cy="93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691920" y="5303520"/>
                <a:ext cx="2611440" cy="936720"/>
                <a:chOff x="691920" y="5303520"/>
                <a:chExt cx="2611440" cy="9367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749880" y="530352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MM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91920" y="530352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3303720" y="5303520"/>
                <a:ext cx="2611800" cy="936720"/>
                <a:chOff x="3303720" y="5303520"/>
                <a:chExt cx="2611800" cy="936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362040" y="5303520"/>
                  <a:ext cx="249480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 ( 8 – 60 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303720" y="5303520"/>
                  <a:ext cx="261180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915880" y="5303520"/>
                <a:ext cx="2611440" cy="936720"/>
                <a:chOff x="5915880" y="5303520"/>
                <a:chExt cx="2611440" cy="9367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973840" y="5303520"/>
                  <a:ext cx="24951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 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915880" y="5303520"/>
                  <a:ext cx="2611440" cy="93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1" name=""/>
            <p:cNvSpPr/>
            <p:nvPr/>
          </p:nvSpPr>
          <p:spPr>
            <a:xfrm>
              <a:off x="685800" y="609480"/>
              <a:ext cx="7848360" cy="563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2057400" y="2057400"/>
            <a:ext cx="449568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CIA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UADRO CLÍN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sidiosa (3º-5º década de la vid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pisodios irregulares de hemólisis intravascular paroxística y noctur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terici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 aumento de la bilirrubina 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moglobi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emoside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ipoplasia en M.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rastornos de la función re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ndencia a Trombosis agu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haber infarto mesenté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lor abdominal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uándo pensar en HP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emia hemolítica adquirida sin esplenomeg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ociado con citopen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ueba de Coombs negativo par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ticuerpos en eritroc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do Hipoplásico asociado con hem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do hipercoagulable con pancitop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rombosis hepática o mesenté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olor abdominal recur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1:41:31Z</dcterms:created>
  <dc:creator>Tynoman</dc:creator>
  <dc:description/>
  <dc:language>en-US</dc:language>
  <cp:lastModifiedBy>Tynoman</cp:lastModifiedBy>
  <dcterms:modified xsi:type="dcterms:W3CDTF">2001-09-23T22:17:43Z</dcterms:modified>
  <cp:revision>30</cp:revision>
  <dc:subject/>
  <dc:title>HEMOGLOBINURIA PAROXÍSTICA NOCTURNA</dc:title>
</cp:coreProperties>
</file>