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66"/>
                </a:solidFill>
                <a:latin typeface="Westminste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estminster"/>
              </a:rPr>
              <a:t>MedBlue 2001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ivaldi"/>
              </a:rPr>
              <a:t>Hemostas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5280" y="34286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000" spc="-1" strike="noStrike">
                <a:solidFill>
                  <a:srgbClr val="000000"/>
                </a:solidFill>
                <a:latin typeface="Georgia"/>
              </a:rPr>
              <a:t>Laboratorio de Hematolog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6338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estminster"/>
              </a:rPr>
              <a:t>MedBlue 2001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lr_plt_0022_07_f" descr=""/>
          <p:cNvPicPr/>
          <p:nvPr/>
        </p:nvPicPr>
        <p:blipFill>
          <a:blip r:embed="rId2"/>
          <a:stretch/>
        </p:blipFill>
        <p:spPr>
          <a:xfrm>
            <a:off x="3124080" y="533520"/>
            <a:ext cx="6019920" cy="5783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752480"/>
            <a:ext cx="2667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Times New Roman"/>
              </a:rPr>
              <a:t>50-1000 mic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660066"/>
                </a:solidFill>
                <a:latin typeface="Times New Roman"/>
              </a:rPr>
              <a:t>Multilob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660066"/>
                </a:solidFill>
                <a:latin typeface="Times New Roman"/>
              </a:rPr>
              <a:t>Mult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660066"/>
                </a:solidFill>
                <a:latin typeface="Times New Roman"/>
              </a:rPr>
              <a:t>Sin Nucle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660066"/>
                </a:solidFill>
                <a:latin typeface="Times New Roman"/>
              </a:rPr>
              <a:t>Cromatina 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66"/>
                </a:solidFill>
                <a:latin typeface="Times New Roman"/>
              </a:rPr>
              <a:t>Basof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66"/>
                </a:solidFill>
                <a:latin typeface="Times New Roman"/>
              </a:rPr>
              <a:t>Abu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66"/>
                </a:solidFill>
                <a:latin typeface="Times New Roman"/>
              </a:rPr>
              <a:t>Granulos azuro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laquetas" descr=""/>
          <p:cNvPicPr/>
          <p:nvPr/>
        </p:nvPicPr>
        <p:blipFill>
          <a:blip r:embed="rId2"/>
          <a:stretch/>
        </p:blipFill>
        <p:spPr>
          <a:xfrm>
            <a:off x="536400" y="1160640"/>
            <a:ext cx="8069400" cy="45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00"/>
                </a:solidFill>
                <a:latin typeface="Times New Roman"/>
              </a:rPr>
              <a:t>Receptores de Superficie,  Microtúbulos,   Factor 3 Plaque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laqueta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rincipales Granula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Baskerville Old Face"/>
              </a:rPr>
              <a:t>Granulaciones al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Fibrino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Fibronec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Factor V y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PDGF y TGF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Factor Plaquetario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Baskerville Old Face"/>
              </a:rPr>
              <a:t>Granulaciones delta (cuerpos den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ADP y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Calcio ion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Histamina, Serotonina y Epinef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Baskerville Old Face"/>
              </a:rPr>
              <a:t>Lis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0115856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000000"/>
                </a:solidFill>
                <a:latin typeface="Times New Roman"/>
              </a:rPr>
              <a:t>Plaqu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RFOLOGÍ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-4 micras con formas irregulares, ovales o redo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consideran fragmentos del citoplasma de los megacariocitos de la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 tienen núcl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 frotis teñidos, se distingue una zona clara, débilmente basófi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iene gran cantidad de gránulos azuróf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800" spc="-1" strike="noStrike">
                <a:solidFill>
                  <a:srgbClr val="000000"/>
                </a:solidFill>
                <a:latin typeface="Times New Roman"/>
              </a:rPr>
              <a:t>7-10 dias promedio de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latelets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34596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ivaldi"/>
              </a:rPr>
              <a:t>Plaquet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48006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048120"/>
            <a:ext cx="9144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572000"/>
            <a:ext cx="83808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sotw9_temp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msotw9_temp0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4876920" cy="4064040"/>
          </a:xfrm>
          <a:prstGeom prst="rect">
            <a:avLst/>
          </a:prstGeom>
          <a:ln w="507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000000"/>
                </a:solidFill>
                <a:latin typeface="Times New Roman"/>
              </a:rPr>
              <a:t>Plaqu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imes New Roman"/>
              </a:rPr>
              <a:t>Adhesión a la matriz extracelular en los sitios lesionados del endotelio, Activ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imes New Roman"/>
              </a:rPr>
              <a:t>Secreción de productos de sus gran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imes New Roman"/>
              </a:rPr>
              <a:t>Exposición de complejos de fosfolípidos importantes para la vía intrín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imes New Roman"/>
              </a:rPr>
              <a:t>Exposición de las células endoteliales al Factor Tisular. (Cascada Extrínse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imes New Roman"/>
              </a:rPr>
              <a:t>ADP es liberado favoreciendo la formación de un tapón hemostático primario, que finalmente se convierte en un tapón secundario más grande y defini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imes New Roman"/>
              </a:rPr>
              <a:t>La fibrina estabiliza y sirve de anclaje al tapón plaque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j0115856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685800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6765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. Definir el t</a:t>
            </a:r>
            <a:r>
              <a:rPr b="0" lang="es-PA" sz="3600" spc="-1" strike="noStrike">
                <a:solidFill>
                  <a:srgbClr val="000000"/>
                </a:solidFill>
                <a:latin typeface="Georgia"/>
              </a:rPr>
              <a:t>érmino “Hemostasia”, describir la secuencia ordenada de los fenómenos que ocur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imes New Roman"/>
              </a:rPr>
              <a:t>Fase Vascular (Plaqueta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imes New Roman"/>
              </a:rPr>
              <a:t>Fase Bioquímica o de la Coag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imes New Roman"/>
              </a:rPr>
              <a:t>Fase Fibrin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ivaldi"/>
              </a:rPr>
              <a:t>Introducc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agulacion es un proceso fisiologico complejo destinado a detener fenomenos hemorragicos (hemostasia) y a remodelar el trombo formado como consecuencia del primero (fibrinolisis).  De esta manera la coagulacion es considerada como una balanza en la cual equilibran mediadores de trombosis (protromboticos) y mediadores antitrombo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ivaldi"/>
              </a:rPr>
              <a:t>Endoteli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s c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élulas endoteliales integras sirven principalmente para inhibir la adhesión de las plaquetas y la coagulación de la sangre. Sin embargo, la lesión o activación de las células endoteliales da lugar a un fenotipo procoagulante que aumenta la formación de coág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Endotelina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FT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Prot S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PA" sz="2400" spc="-1" strike="noStrike">
                <a:solidFill>
                  <a:srgbClr val="000000"/>
                </a:solidFill>
                <a:latin typeface="Georgia"/>
              </a:rPr>
              <a:t>    t-PA     vWF    PAI    </a:t>
            </a:r>
            <a:r>
              <a:rPr b="1" lang="es-PA" sz="2400" spc="-1" strike="noStrike">
                <a:solidFill>
                  <a:srgbClr val="000066"/>
                </a:solidFill>
                <a:latin typeface="Georgia"/>
              </a:rPr>
              <a:t>Vi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ivaldi"/>
              </a:rPr>
              <a:t>Hemostas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ndi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dote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v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ubendote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omb</a:t>
            </a:r>
            <a:r>
              <a:rPr b="0" lang="es-PA" sz="1800" spc="-1" strike="noStrike">
                <a:solidFill>
                  <a:srgbClr val="000000"/>
                </a:solidFill>
                <a:latin typeface="Georgia"/>
              </a:rPr>
              <a:t>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s-PA" sz="1800" spc="-1" strike="noStrike">
                <a:solidFill>
                  <a:srgbClr val="000000"/>
                </a:solidFill>
                <a:latin typeface="Georgia"/>
              </a:rPr>
              <a:t>dhesión y Acti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s-PA" sz="1800" spc="-1" strike="noStrike">
                <a:solidFill>
                  <a:srgbClr val="000000"/>
                </a:solidFill>
                <a:latin typeface="Georgia"/>
              </a:rPr>
              <a:t>ecreción (Tapón Hemost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6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s-PA" sz="1800" spc="-1" strike="noStrike">
                <a:solidFill>
                  <a:srgbClr val="000000"/>
                </a:solidFill>
                <a:latin typeface="Georgia"/>
              </a:rPr>
              <a:t>nicio (Cascada de la coagulación)  Factor Tisular ---- Trom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6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s-PA" sz="1800" spc="-1" strike="noStrike">
                <a:solidFill>
                  <a:srgbClr val="000000"/>
                </a:solidFill>
                <a:latin typeface="Georgia"/>
              </a:rPr>
              <a:t>gregación  (Tapón Secund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ivaldi"/>
              </a:rPr>
              <a:t>Hemostasia Prima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51080"/>
            <a:ext cx="822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accion conjunta entre vasos sanguineos, plaquetas 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vonWillebrand para detener la hemorragia se conoce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ostasia primaria.  La hemostasia primaria result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on d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on plaquet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La hemostasia primaria p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a en sitios de alta presion (vasos arterial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ivaldi"/>
              </a:rPr>
              <a:t>Hemostasia Secunda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51080"/>
            <a:ext cx="812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accion conjunta entre factores de coagulacion, fosfolip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calcio para detener la hemorragia se conoce como hemost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ndaria.  La hemostasia secundaria resulta en la forma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on de fibr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La hemostasia secundaria predomin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de baja presion (vasos venos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600" spc="-1" strike="noStrike">
                <a:solidFill>
                  <a:srgbClr val="000000"/>
                </a:solidFill>
                <a:latin typeface="Georgia"/>
              </a:rPr>
              <a:t>II. Identificar y Reconocer las funciones e importancia de cada parte en que se ha dividido la Hemostasia para su e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73356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imes New Roman"/>
              </a:rPr>
              <a:t>Participación Vascular y Plaque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imes New Roman"/>
              </a:rPr>
              <a:t>Vía Extrinseca y Vía Intrí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imes New Roman"/>
              </a:rPr>
              <a:t>Acción del Plasminógeno (activadores e inhibi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52600"/>
            <a:ext cx="650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lementos Mediadores de Tromb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Vasos Sanguin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Plaqu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Factores de Coagul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3860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lementos Mediadores Antitromboticos (Fibrinoli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nticoagula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tein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teina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ntitrombin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istema Fibrinol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0384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37160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0:06:21Z</dcterms:created>
  <dc:creator>Leopoldo D. Salvatierra</dc:creator>
  <dc:description/>
  <dc:language>en-US</dc:language>
  <cp:lastModifiedBy>Leopoldo D. Salvatierra</cp:lastModifiedBy>
  <dcterms:modified xsi:type="dcterms:W3CDTF">2001-11-18T20:36:10Z</dcterms:modified>
  <cp:revision>15</cp:revision>
  <dc:subject/>
  <dc:title>Hemostasia</dc:title>
</cp:coreProperties>
</file>